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A89C56-288D-465D-8CD5-5BBAD458277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B102A7-7167-4B8C-B1A8-4527B61161C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74B51A-097B-4CF7-8E86-A7BDFDFEDD7E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3854AD-E802-4C3E-8747-898C53519E21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DDFFF9-A06D-4AEC-BF7E-B19751BF1CFB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3D6D20-379C-4D34-8FE3-EDC1EB0F207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9B0249-9004-4ECC-9F06-A0E833D74523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3" name="Header Placeholder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Lucida Sans"/>
              </a:rPr>
              <a:t>Prof. Paolo Ferragina, Univ. Pisa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aolo Ferragina, Web Algorithmics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BF735A-EB85-4060-98A9-321DAECBCF6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0FA-AB9D-49B5-878F-52BB88D1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70F-7852-40E9-89E5-A66E1183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A28-C079-4101-80FA-A3DDFF1D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84A-5EC3-4181-BDA4-24A62DE6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6188-E228-49CE-A9AA-B09F04BD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8048-8305-44A8-86D7-BF16FB0A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3010-8121-4E96-A684-968046E7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7523-EB89-4941-8E86-C72EC6AF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8D00-53B8-4342-A29B-8B92443C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7C92-8D58-4E1A-A074-504E24DF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B728-11C5-404D-AC57-0F098A4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A89-29B6-4C52-8A91-158FA335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9BCA-C861-491D-9CA8-6BAEB4D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05D2-1A1E-47B9-B16B-BBC9F87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F547-9576-4A30-92A6-A393F24F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00B7-A07F-4C92-A833-7060CCA9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2A0D-CDDE-4431-88C4-5726EDA9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C01-28BE-4B73-B539-0F0D379F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AB2-2050-44EE-8C35-092E5334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0F1-1744-49B1-943B-634AF8EB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EC6-EE58-4386-830A-2C57631F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FA8-2FFE-4B2C-A8F1-9E93CE3D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77A-D546-4588-8AC6-EEE2590A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93E-D6AB-4719-82D8-E63FAACF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F2D2-2FE7-49EE-B087-F93D841C6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0E1A-C0B9-40F5-AD66-C6861FB99495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Web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Spider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54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24h, 7days 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lking</a:t>
            </a:r>
            <a:r>
              <a:rPr b="0" lang="ja-JP" sz="28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over the web graph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Recall that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irect graph G = (N, E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 changes (insert, delete) &gt;&gt; 50 billion nod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 changes (insert, delete) &gt; 10 links per no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10*50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9 =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0 bill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ntries in posting li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any more if we consider also the word positions in every document where it occur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6" name="Picture 3" descr="bowtie"/>
          <p:cNvPicPr/>
          <p:nvPr/>
        </p:nvPicPr>
        <p:blipFill>
          <a:blip r:embed="rId1"/>
          <a:stretch/>
        </p:blipFill>
        <p:spPr>
          <a:xfrm>
            <a:off x="5716440" y="4149720"/>
            <a:ext cx="34275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Iss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to crawl?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Best</a:t>
            </a:r>
            <a:r>
              <a:rPr b="0" lang="ja-JP" sz="20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pages fir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Avoid duplication (or near duplicatio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Etiquett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Robots.txt, Server load concerns (Minimize lo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Malicious page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Spam pages, Spider traps – incl dynamically gener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much to crawl, and thus index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Coverag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big is the Web? How much do we cover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Relative Coverage: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w much do competitors hav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ow often to crawl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shnes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How much has changed?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: Commonly insert time gap btw host reques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343800" y="1701720"/>
            <a:ext cx="8457480" cy="5067360"/>
            <a:chOff x="343800" y="1701720"/>
            <a:chExt cx="8457480" cy="5067360"/>
          </a:xfrm>
        </p:grpSpPr>
        <p:sp>
          <p:nvSpPr>
            <p:cNvPr id="191" name="Freeform 4"/>
            <p:cNvSpPr/>
            <p:nvPr/>
          </p:nvSpPr>
          <p:spPr>
            <a:xfrm>
              <a:off x="520560" y="1701720"/>
              <a:ext cx="8280720" cy="5067360"/>
            </a:xfrm>
            <a:custGeom>
              <a:avLst/>
              <a:gdLst>
                <a:gd name="textAreaLeft" fmla="*/ 0 w 8280720"/>
                <a:gd name="textAreaRight" fmla="*/ 8281080 w 8280720"/>
                <a:gd name="textAreaTop" fmla="*/ 0 h 5067360"/>
                <a:gd name="textAreaBottom" fmla="*/ 5067720 h 5067360"/>
              </a:gdLst>
              <a:ahLst/>
              <a:rect l="textAreaLeft" t="textAreaTop" r="textAreaRight" b="textAreaBottom"/>
              <a:pathLst>
                <a:path w="5216" h="3192">
                  <a:moveTo>
                    <a:pt x="1208" y="2768"/>
                  </a:moveTo>
                  <a:cubicBezTo>
                    <a:pt x="632" y="2536"/>
                    <a:pt x="0" y="2184"/>
                    <a:pt x="8" y="1760"/>
                  </a:cubicBezTo>
                  <a:cubicBezTo>
                    <a:pt x="16" y="1336"/>
                    <a:pt x="512" y="448"/>
                    <a:pt x="1256" y="224"/>
                  </a:cubicBezTo>
                  <a:cubicBezTo>
                    <a:pt x="2000" y="0"/>
                    <a:pt x="3840" y="32"/>
                    <a:pt x="4472" y="416"/>
                  </a:cubicBezTo>
                  <a:cubicBezTo>
                    <a:pt x="5104" y="800"/>
                    <a:pt x="5216" y="2072"/>
                    <a:pt x="5048" y="2528"/>
                  </a:cubicBezTo>
                  <a:cubicBezTo>
                    <a:pt x="4880" y="2984"/>
                    <a:pt x="4104" y="3112"/>
                    <a:pt x="3464" y="3152"/>
                  </a:cubicBezTo>
                  <a:cubicBezTo>
                    <a:pt x="2824" y="3192"/>
                    <a:pt x="1784" y="3000"/>
                    <a:pt x="1208" y="2768"/>
                  </a:cubicBez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343800" y="5600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93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194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196" name="Picture 12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4"/>
          <p:cNvGrpSpPr/>
          <p:nvPr/>
        </p:nvGrpSpPr>
        <p:grpSpPr>
          <a:xfrm>
            <a:off x="2438280" y="1828800"/>
            <a:ext cx="3416400" cy="4800600"/>
            <a:chOff x="2438280" y="1828800"/>
            <a:chExt cx="3416400" cy="4800600"/>
          </a:xfrm>
        </p:grpSpPr>
        <p:grpSp>
          <p:nvGrpSpPr>
            <p:cNvPr id="198" name="Group 15"/>
            <p:cNvGrpSpPr/>
            <p:nvPr/>
          </p:nvGrpSpPr>
          <p:grpSpPr>
            <a:xfrm>
              <a:off x="3267000" y="1828800"/>
              <a:ext cx="2587680" cy="4800600"/>
              <a:chOff x="3267000" y="1828800"/>
              <a:chExt cx="2587680" cy="4800600"/>
            </a:xfrm>
          </p:grpSpPr>
          <p:sp>
            <p:nvSpPr>
              <p:cNvPr id="199" name="Freeform 16"/>
              <p:cNvSpPr/>
              <p:nvPr/>
            </p:nvSpPr>
            <p:spPr>
              <a:xfrm>
                <a:off x="4572000" y="1828800"/>
                <a:ext cx="1282680" cy="4800600"/>
              </a:xfrm>
              <a:custGeom>
                <a:avLst/>
                <a:gdLst>
                  <a:gd name="textAreaLeft" fmla="*/ 0 w 1282680"/>
                  <a:gd name="textAreaRight" fmla="*/ 1283040 w 1282680"/>
                  <a:gd name="textAreaTop" fmla="*/ 0 h 4800600"/>
                  <a:gd name="textAreaBottom" fmla="*/ 4800960 h 4800600"/>
                </a:gdLst>
                <a:ahLst/>
                <a:rect l="textAreaLeft" t="textAreaTop" r="textAreaRight" b="textAreaBottom"/>
                <a:pathLst>
                  <a:path w="808" h="3024">
                    <a:moveTo>
                      <a:pt x="528" y="0"/>
                    </a:moveTo>
                    <a:cubicBezTo>
                      <a:pt x="264" y="164"/>
                      <a:pt x="0" y="328"/>
                      <a:pt x="0" y="576"/>
                    </a:cubicBezTo>
                    <a:cubicBezTo>
                      <a:pt x="0" y="824"/>
                      <a:pt x="408" y="1128"/>
                      <a:pt x="528" y="1488"/>
                    </a:cubicBezTo>
                    <a:cubicBezTo>
                      <a:pt x="648" y="1848"/>
                      <a:pt x="808" y="2480"/>
                      <a:pt x="720" y="2736"/>
                    </a:cubicBezTo>
                    <a:cubicBezTo>
                      <a:pt x="632" y="2992"/>
                      <a:pt x="316" y="3008"/>
                      <a:pt x="0" y="30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3267000" y="4610160"/>
                <a:ext cx="200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URL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fronti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01" name="Line 18"/>
            <p:cNvSpPr/>
            <p:nvPr/>
          </p:nvSpPr>
          <p:spPr>
            <a:xfrm flipV="1">
              <a:off x="2438280" y="50292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2438280" y="5410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>
              <a:off x="2590920" y="388620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Line 21"/>
            <p:cNvSpPr/>
            <p:nvPr/>
          </p:nvSpPr>
          <p:spPr>
            <a:xfrm flipV="1">
              <a:off x="3124080" y="28954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05" name="Text Box 22"/>
          <p:cNvSpPr/>
          <p:nvPr/>
        </p:nvSpPr>
        <p:spPr>
          <a:xfrm>
            <a:off x="599652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Oval 23"/>
          <p:cNvSpPr/>
          <p:nvPr/>
        </p:nvSpPr>
        <p:spPr>
          <a:xfrm>
            <a:off x="1212480" y="4556160"/>
            <a:ext cx="14767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Line 24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Line 25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pdated crawling pictur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Freeform 4"/>
          <p:cNvSpPr/>
          <p:nvPr/>
        </p:nvSpPr>
        <p:spPr>
          <a:xfrm>
            <a:off x="520560" y="1714680"/>
            <a:ext cx="8280720" cy="5067000"/>
          </a:xfrm>
          <a:custGeom>
            <a:avLst/>
            <a:gdLst>
              <a:gd name="textAreaLeft" fmla="*/ 0 w 8280720"/>
              <a:gd name="textAreaRight" fmla="*/ 8281080 w 8280720"/>
              <a:gd name="textAreaTop" fmla="*/ 0 h 5067000"/>
              <a:gd name="textAreaBottom" fmla="*/ 5067360 h 5067000"/>
            </a:gdLst>
            <a:ahLst/>
            <a:rect l="textAreaLeft" t="textAreaTop" r="textAreaRight" b="textAreaBottom"/>
            <a:pathLst>
              <a:path w="5216" h="3192">
                <a:moveTo>
                  <a:pt x="1208" y="2768"/>
                </a:moveTo>
                <a:cubicBezTo>
                  <a:pt x="632" y="2536"/>
                  <a:pt x="0" y="2184"/>
                  <a:pt x="8" y="1760"/>
                </a:cubicBezTo>
                <a:cubicBezTo>
                  <a:pt x="16" y="1336"/>
                  <a:pt x="512" y="448"/>
                  <a:pt x="1256" y="224"/>
                </a:cubicBezTo>
                <a:cubicBezTo>
                  <a:pt x="2000" y="0"/>
                  <a:pt x="3840" y="32"/>
                  <a:pt x="4472" y="416"/>
                </a:cubicBezTo>
                <a:cubicBezTo>
                  <a:pt x="5104" y="800"/>
                  <a:pt x="5216" y="2072"/>
                  <a:pt x="5048" y="2528"/>
                </a:cubicBezTo>
                <a:cubicBezTo>
                  <a:pt x="4880" y="2984"/>
                  <a:pt x="4104" y="3112"/>
                  <a:pt x="3464" y="3152"/>
                </a:cubicBezTo>
                <a:cubicBezTo>
                  <a:pt x="2824" y="3192"/>
                  <a:pt x="1784" y="3000"/>
                  <a:pt x="1208" y="2768"/>
                </a:cubicBez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1082160" y="1905120"/>
            <a:ext cx="2638800" cy="4419360"/>
            <a:chOff x="1082160" y="1905120"/>
            <a:chExt cx="2638800" cy="4419360"/>
          </a:xfrm>
        </p:grpSpPr>
        <p:sp>
          <p:nvSpPr>
            <p:cNvPr id="213" name="Freeform 7"/>
            <p:cNvSpPr/>
            <p:nvPr/>
          </p:nvSpPr>
          <p:spPr>
            <a:xfrm>
              <a:off x="2666880" y="1905120"/>
              <a:ext cx="1054080" cy="441936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4419360"/>
                <a:gd name="textAreaBottom" fmla="*/ 4419720 h 4419360"/>
              </a:gdLst>
              <a:ahLst/>
              <a:rect l="textAreaLeft" t="textAreaTop" r="textAreaRight" b="textAreaBottom"/>
              <a:pathLst>
                <a:path w="664" h="2784">
                  <a:moveTo>
                    <a:pt x="288" y="0"/>
                  </a:moveTo>
                  <a:cubicBezTo>
                    <a:pt x="476" y="324"/>
                    <a:pt x="664" y="648"/>
                    <a:pt x="624" y="912"/>
                  </a:cubicBezTo>
                  <a:cubicBezTo>
                    <a:pt x="584" y="1176"/>
                    <a:pt x="96" y="1272"/>
                    <a:pt x="48" y="1584"/>
                  </a:cubicBezTo>
                  <a:cubicBezTo>
                    <a:pt x="0" y="1896"/>
                    <a:pt x="168" y="2340"/>
                    <a:pt x="336" y="27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1082160" y="3086280"/>
              <a:ext cx="209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 crawl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and parsed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pic>
        <p:nvPicPr>
          <p:cNvPr id="215" name="Picture 9" descr="MCj02149840000[1]"/>
          <p:cNvPicPr/>
          <p:nvPr/>
        </p:nvPicPr>
        <p:blipFill>
          <a:blip r:embed="rId1"/>
          <a:stretch/>
        </p:blipFill>
        <p:spPr>
          <a:xfrm>
            <a:off x="2590920" y="4191120"/>
            <a:ext cx="474480" cy="47124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11"/>
          <p:cNvGrpSpPr/>
          <p:nvPr/>
        </p:nvGrpSpPr>
        <p:grpSpPr>
          <a:xfrm>
            <a:off x="4648320" y="1828800"/>
            <a:ext cx="1282680" cy="4800600"/>
            <a:chOff x="4648320" y="1828800"/>
            <a:chExt cx="1282680" cy="4800600"/>
          </a:xfrm>
        </p:grpSpPr>
        <p:sp>
          <p:nvSpPr>
            <p:cNvPr id="217" name="Freeform 12"/>
            <p:cNvSpPr/>
            <p:nvPr/>
          </p:nvSpPr>
          <p:spPr>
            <a:xfrm>
              <a:off x="4648320" y="1828800"/>
              <a:ext cx="1282680" cy="480060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4800600"/>
                <a:gd name="textAreaBottom" fmla="*/ 4800960 h 4800600"/>
              </a:gdLst>
              <a:ahLst/>
              <a:rect l="textAreaLeft" t="textAreaTop" r="textAreaRight" b="textAreaBottom"/>
              <a:pathLst>
                <a:path w="808" h="3024">
                  <a:moveTo>
                    <a:pt x="528" y="0"/>
                  </a:moveTo>
                  <a:cubicBezTo>
                    <a:pt x="264" y="164"/>
                    <a:pt x="0" y="328"/>
                    <a:pt x="0" y="576"/>
                  </a:cubicBezTo>
                  <a:cubicBezTo>
                    <a:pt x="0" y="824"/>
                    <a:pt x="408" y="1128"/>
                    <a:pt x="528" y="1488"/>
                  </a:cubicBezTo>
                  <a:cubicBezTo>
                    <a:pt x="648" y="1848"/>
                    <a:pt x="808" y="2480"/>
                    <a:pt x="720" y="2736"/>
                  </a:cubicBezTo>
                  <a:cubicBezTo>
                    <a:pt x="632" y="2992"/>
                    <a:pt x="316" y="3008"/>
                    <a:pt x="0" y="30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5149800" y="461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9" name="Line 14"/>
          <p:cNvSpPr/>
          <p:nvPr/>
        </p:nvSpPr>
        <p:spPr>
          <a:xfrm flipV="1">
            <a:off x="2514600" y="4876560"/>
            <a:ext cx="1905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514600" y="5486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2666880" y="38862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Line 17"/>
          <p:cNvSpPr/>
          <p:nvPr/>
        </p:nvSpPr>
        <p:spPr>
          <a:xfrm flipV="1">
            <a:off x="3200400" y="28191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5844240" y="3773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nseen We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1213560" y="4556160"/>
            <a:ext cx="1473120" cy="1166760"/>
          </a:xfrm>
          <a:prstGeom prst="ellipse">
            <a:avLst/>
          </a:prstGeom>
          <a:noFill/>
          <a:ln w="25560">
            <a:solidFill>
              <a:srgbClr val="489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175248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1981080" y="380952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7" name="Picture 22" descr="MCj02149840000[1]"/>
          <p:cNvPicPr/>
          <p:nvPr/>
        </p:nvPicPr>
        <p:blipFill>
          <a:blip r:embed="rId2"/>
          <a:stretch/>
        </p:blipFill>
        <p:spPr>
          <a:xfrm>
            <a:off x="2743200" y="5472000"/>
            <a:ext cx="474840" cy="471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MCj02149840000[1]"/>
          <p:cNvPicPr/>
          <p:nvPr/>
        </p:nvPicPr>
        <p:blipFill>
          <a:blip r:embed="rId3"/>
          <a:stretch/>
        </p:blipFill>
        <p:spPr>
          <a:xfrm>
            <a:off x="3200400" y="3505320"/>
            <a:ext cx="474840" cy="471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4" descr="MCj02149840000[1]"/>
          <p:cNvPicPr/>
          <p:nvPr/>
        </p:nvPicPr>
        <p:blipFill>
          <a:blip r:embed="rId4"/>
          <a:stretch/>
        </p:blipFill>
        <p:spPr>
          <a:xfrm>
            <a:off x="3259080" y="2362320"/>
            <a:ext cx="474840" cy="4712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5"/>
          <p:cNvSpPr/>
          <p:nvPr/>
        </p:nvSpPr>
        <p:spPr>
          <a:xfrm>
            <a:off x="4267080" y="2590920"/>
            <a:ext cx="304920" cy="31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4267080" y="28954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2" name="Line 27"/>
          <p:cNvSpPr/>
          <p:nvPr/>
        </p:nvSpPr>
        <p:spPr>
          <a:xfrm>
            <a:off x="4267080" y="3200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4267080" y="3505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4267080" y="3809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4267080" y="44197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Line 32"/>
          <p:cNvSpPr/>
          <p:nvPr/>
        </p:nvSpPr>
        <p:spPr>
          <a:xfrm>
            <a:off x="4267080" y="4724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4267080" y="50292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4267080" y="5334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3533760" y="5678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RL fronti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41" name="AutoShape 37"/>
          <p:cNvCxnSpPr>
            <a:endCxn id="230" idx="0"/>
          </p:cNvCxnSpPr>
          <p:nvPr/>
        </p:nvCxnSpPr>
        <p:spPr>
          <a:xfrm flipV="1">
            <a:off x="3733560" y="2580480"/>
            <a:ext cx="686520" cy="18360"/>
          </a:xfrm>
          <a:prstGeom prst="curvedConnector5">
            <a:avLst>
              <a:gd name="adj1" fmla="val 38614"/>
              <a:gd name="adj2" fmla="val 676000"/>
              <a:gd name="adj3" fmla="val 38614"/>
            </a:avLst>
          </a:prstGeom>
          <a:ln w="9360">
            <a:solidFill>
              <a:srgbClr val="00a000"/>
            </a:solidFill>
            <a:prstDash val="sysDot"/>
            <a:miter/>
            <a:tailEnd len="med" type="triangle" w="med"/>
          </a:ln>
        </p:spPr>
      </p:cxnSp>
      <p:sp>
        <p:nvSpPr>
          <p:cNvPr id="242" name="Line 38"/>
          <p:cNvSpPr/>
          <p:nvPr/>
        </p:nvSpPr>
        <p:spPr>
          <a:xfrm flipV="1">
            <a:off x="1828800" y="57909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86400" y="624852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Sans"/>
                <a:ea typeface="Arial Unicode MS"/>
              </a:rPr>
              <a:t>Crawling thre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4" name="TextBox 36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1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small exampl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5281560" y="1677960"/>
            <a:ext cx="3827520" cy="4127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i.stack.imgur.com/1j5IO.jpg"/>
          <p:cNvPicPr/>
          <p:nvPr/>
        </p:nvPicPr>
        <p:blipFill>
          <a:blip r:embed="rId2"/>
          <a:stretch/>
        </p:blipFill>
        <p:spPr>
          <a:xfrm>
            <a:off x="492120" y="1844640"/>
            <a:ext cx="4151160" cy="3745080"/>
          </a:xfrm>
          <a:prstGeom prst="rect">
            <a:avLst/>
          </a:prstGeom>
          <a:ln w="0">
            <a:noFill/>
          </a:ln>
        </p:spPr>
      </p:pic>
      <p:sp>
        <p:nvSpPr>
          <p:cNvPr id="248" name="Oval 6"/>
          <p:cNvSpPr/>
          <p:nvPr/>
        </p:nvSpPr>
        <p:spPr>
          <a:xfrm>
            <a:off x="1403280" y="1989000"/>
            <a:ext cx="79236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1128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2340000" y="3284640"/>
            <a:ext cx="792000" cy="43164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1" name="Freeform 10"/>
          <p:cNvSpPr/>
          <p:nvPr/>
        </p:nvSpPr>
        <p:spPr>
          <a:xfrm>
            <a:off x="1378080" y="2470320"/>
            <a:ext cx="569880" cy="1023840"/>
          </a:xfrm>
          <a:custGeom>
            <a:avLst/>
            <a:gdLst/>
            <a:ahLst/>
            <a:rect l="l" t="t" r="r" b="b"/>
            <a:pathLst>
              <a:path w="568699" h="1023582">
                <a:moveTo>
                  <a:pt x="0" y="1023582"/>
                </a:moveTo>
                <a:cubicBezTo>
                  <a:pt x="18197" y="1014483"/>
                  <a:pt x="39385" y="1009802"/>
                  <a:pt x="54591" y="996286"/>
                </a:cubicBezTo>
                <a:cubicBezTo>
                  <a:pt x="81147" y="972681"/>
                  <a:pt x="94095" y="935298"/>
                  <a:pt x="122830" y="914400"/>
                </a:cubicBezTo>
                <a:cubicBezTo>
                  <a:pt x="140235" y="901742"/>
                  <a:pt x="230440" y="880673"/>
                  <a:pt x="259307" y="873456"/>
                </a:cubicBezTo>
                <a:cubicBezTo>
                  <a:pt x="272955" y="859808"/>
                  <a:pt x="285597" y="845074"/>
                  <a:pt x="300251" y="832513"/>
                </a:cubicBezTo>
                <a:cubicBezTo>
                  <a:pt x="317521" y="817710"/>
                  <a:pt x="340039" y="808840"/>
                  <a:pt x="354842" y="791570"/>
                </a:cubicBezTo>
                <a:cubicBezTo>
                  <a:pt x="368082" y="776123"/>
                  <a:pt x="369930" y="753255"/>
                  <a:pt x="382137" y="736979"/>
                </a:cubicBezTo>
                <a:cubicBezTo>
                  <a:pt x="397578" y="716391"/>
                  <a:pt x="421287" y="702976"/>
                  <a:pt x="436728" y="682388"/>
                </a:cubicBezTo>
                <a:cubicBezTo>
                  <a:pt x="448935" y="666112"/>
                  <a:pt x="453241" y="645049"/>
                  <a:pt x="464024" y="627797"/>
                </a:cubicBezTo>
                <a:cubicBezTo>
                  <a:pt x="536152" y="512392"/>
                  <a:pt x="478763" y="638716"/>
                  <a:pt x="532263" y="504967"/>
                </a:cubicBezTo>
                <a:cubicBezTo>
                  <a:pt x="563776" y="347395"/>
                  <a:pt x="568699" y="350588"/>
                  <a:pt x="532263" y="95534"/>
                </a:cubicBezTo>
                <a:cubicBezTo>
                  <a:pt x="529533" y="76427"/>
                  <a:pt x="505845" y="67301"/>
                  <a:pt x="491319" y="54591"/>
                </a:cubicBezTo>
                <a:cubicBezTo>
                  <a:pt x="469397" y="35409"/>
                  <a:pt x="423080" y="0"/>
                  <a:pt x="423080" y="0"/>
                </a:cubicBezTo>
              </a:path>
            </a:pathLst>
          </a:custGeom>
          <a:noFill/>
          <a:ln w="76320">
            <a:solidFill>
              <a:srgbClr val="26d4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611280" y="4724280"/>
            <a:ext cx="792000" cy="4334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253" name="Straight Arrow Connector 13"/>
          <p:cNvCxnSpPr>
            <a:stCxn id="250" idx="2"/>
          </p:cNvCxnSpPr>
          <p:nvPr/>
        </p:nvCxnSpPr>
        <p:spPr>
          <a:xfrm flipH="1">
            <a:off x="1331640" y="3500280"/>
            <a:ext cx="1008720" cy="115344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54" name="Straight Arrow Connector 14"/>
          <p:cNvCxnSpPr>
            <a:stCxn id="249" idx="4"/>
            <a:endCxn id="252" idx="0"/>
          </p:cNvCxnSpPr>
          <p:nvPr/>
        </p:nvCxnSpPr>
        <p:spPr>
          <a:xfrm>
            <a:off x="1007640" y="3716280"/>
            <a:ext cx="1080" cy="100872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55" name="Straight Arrow Connector 12"/>
          <p:cNvCxnSpPr>
            <a:stCxn id="250" idx="6"/>
          </p:cNvCxnSpPr>
          <p:nvPr/>
        </p:nvCxnSpPr>
        <p:spPr>
          <a:xfrm>
            <a:off x="3131640" y="3500280"/>
            <a:ext cx="1080360" cy="650160"/>
          </a:xfrm>
          <a:prstGeom prst="straightConnector1">
            <a:avLst/>
          </a:prstGeom>
          <a:ln w="76320">
            <a:solidFill>
              <a:srgbClr val="33cc33"/>
            </a:solidFill>
            <a:miter/>
            <a:tailEnd len="med" type="arrow" w="med"/>
          </a:ln>
        </p:spPr>
      </p:cxnSp>
      <p:sp>
        <p:nvSpPr>
          <p:cNvPr id="256" name="Oval 17"/>
          <p:cNvSpPr/>
          <p:nvPr/>
        </p:nvSpPr>
        <p:spPr>
          <a:xfrm>
            <a:off x="3780000" y="4149720"/>
            <a:ext cx="792000" cy="431640"/>
          </a:xfrm>
          <a:prstGeom prst="ellipse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Rettangolo arrotondato 1"/>
          <p:cNvSpPr/>
          <p:nvPr/>
        </p:nvSpPr>
        <p:spPr>
          <a:xfrm>
            <a:off x="6588000" y="2349360"/>
            <a:ext cx="144000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6732720" y="5227560"/>
            <a:ext cx="1083960" cy="505080"/>
          </a:xfrm>
          <a:prstGeom prst="ellipse">
            <a:avLst/>
          </a:prstGeom>
          <a:noFill/>
          <a:ln w="76320">
            <a:solidFill>
              <a:srgbClr val="ad8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79280" y="1628640"/>
            <a:ext cx="445932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Link Extracto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206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take a pag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 (</a:t>
            </a:r>
            <a:r>
              <a:rPr b="0" i="1" lang="it-IT" sz="1400" spc="-1" strike="noStrike">
                <a:solidFill>
                  <a:srgbClr val="ff0000"/>
                </a:solidFill>
                <a:latin typeface="Lucida Sans"/>
              </a:rPr>
              <a:t>check if it is new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p with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href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links contained in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javascrip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….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insert these links into the </a:t>
            </a:r>
            <a:r>
              <a:rPr b="0" lang="it-IT" sz="1400" spc="-1" strike="noStrike">
                <a:solidFill>
                  <a:srgbClr val="3333cc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4692600" y="1700280"/>
            <a:ext cx="420048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Downloader per page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downloa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age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tore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page(u)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 a proper archive,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ossibly compressed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00040" y="3867120"/>
            <a:ext cx="8358120" cy="27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Lucida Sans"/>
              </a:rPr>
              <a:t>One single Crawler Manager: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while(&lt;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Priority Queu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is not empty&gt;)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extract some URL </a:t>
            </a:r>
            <a:r>
              <a:rPr b="0" i="1" lang="it-IT" sz="1400" spc="-1" strike="noStrike">
                <a:solidFill>
                  <a:srgbClr val="000000"/>
                </a:solidFill>
                <a:latin typeface="Lucida Sans"/>
              </a:rPr>
              <a:t>u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aving the </a:t>
            </a:r>
            <a:r>
              <a:rPr b="0" lang="it-IT" sz="1400" spc="-1" strike="noStrike">
                <a:solidFill>
                  <a:srgbClr val="cc3300"/>
                </a:solidFill>
                <a:latin typeface="Lucida Sans"/>
              </a:rPr>
              <a:t>highest priorit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each u extracted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f ( (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) ||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 u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“Already Seen Page”  &amp;&amp; &lt;u’s version on the Web is more recent&gt; 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resolve u wrt DNS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lt;send u to the </a:t>
            </a: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Assigned Repository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rawler 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ycle of life</a:t>
            </a:r>
            <a:r>
              <a:rPr b="0" lang="ja-JP" sz="32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5651640" y="189000"/>
            <a:ext cx="64908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6804000" y="836640"/>
            <a:ext cx="649440" cy="4316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65" name="Group 13"/>
          <p:cNvGrpSpPr/>
          <p:nvPr/>
        </p:nvGrpSpPr>
        <p:grpSpPr>
          <a:xfrm>
            <a:off x="6316560" y="65160"/>
            <a:ext cx="2360880" cy="555480"/>
            <a:chOff x="6316560" y="65160"/>
            <a:chExt cx="2360880" cy="555480"/>
          </a:xfrm>
        </p:grpSpPr>
        <p:grpSp>
          <p:nvGrpSpPr>
            <p:cNvPr id="266" name="Group 11"/>
            <p:cNvGrpSpPr/>
            <p:nvPr/>
          </p:nvGrpSpPr>
          <p:grpSpPr>
            <a:xfrm>
              <a:off x="6372360" y="189000"/>
              <a:ext cx="2305080" cy="431640"/>
              <a:chOff x="6372360" y="189000"/>
              <a:chExt cx="2305080" cy="431640"/>
            </a:xfrm>
          </p:grpSpPr>
          <p:sp>
            <p:nvSpPr>
              <p:cNvPr id="267" name="AutoShape 8"/>
              <p:cNvSpPr/>
              <p:nvPr/>
            </p:nvSpPr>
            <p:spPr>
              <a:xfrm>
                <a:off x="8028000" y="189000"/>
                <a:ext cx="6494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Lucida Sans"/>
                  </a:rPr>
                  <a:t>AR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8" name="AutoShape 10"/>
              <p:cNvSpPr/>
              <p:nvPr/>
            </p:nvSpPr>
            <p:spPr>
              <a:xfrm>
                <a:off x="6372360" y="260280"/>
                <a:ext cx="1584360" cy="287280"/>
              </a:xfrm>
              <a:prstGeom prst="rightArrow">
                <a:avLst>
                  <a:gd name="adj1" fmla="val 50000"/>
                  <a:gd name="adj2" fmla="val 1378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69" name="Text Box 12"/>
            <p:cNvSpPr/>
            <p:nvPr/>
          </p:nvSpPr>
          <p:spPr>
            <a:xfrm>
              <a:off x="6316560" y="65160"/>
              <a:ext cx="141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Crawler Manag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0" name="Group 17"/>
          <p:cNvGrpSpPr/>
          <p:nvPr/>
        </p:nvGrpSpPr>
        <p:grpSpPr>
          <a:xfrm>
            <a:off x="7624080" y="679680"/>
            <a:ext cx="1543320" cy="674280"/>
            <a:chOff x="7624080" y="679680"/>
            <a:chExt cx="1543320" cy="674280"/>
          </a:xfrm>
        </p:grpSpPr>
        <p:sp>
          <p:nvSpPr>
            <p:cNvPr id="271" name="AutoShape 14"/>
            <p:cNvSpPr/>
            <p:nvPr/>
          </p:nvSpPr>
          <p:spPr>
            <a:xfrm rot="3228000">
              <a:off x="7812360" y="691920"/>
              <a:ext cx="360360" cy="6494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13400 h 649440"/>
                <a:gd name="textAreaBottom" fmla="*/ 47088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8198640" y="836640"/>
              <a:ext cx="96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Lucida Sans"/>
                </a:rPr>
                <a:t>Downloaders</a:t>
              </a:r>
              <a:endParaRPr b="0" lang="en-US" sz="1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5489280" y="686160"/>
            <a:ext cx="1323720" cy="609480"/>
            <a:chOff x="5489280" y="686160"/>
            <a:chExt cx="1323720" cy="609480"/>
          </a:xfrm>
        </p:grpSpPr>
        <p:sp>
          <p:nvSpPr>
            <p:cNvPr id="274" name="AutoShape 18"/>
            <p:cNvSpPr/>
            <p:nvPr/>
          </p:nvSpPr>
          <p:spPr>
            <a:xfrm rot="1172400">
              <a:off x="5866920" y="836280"/>
              <a:ext cx="936720" cy="216000"/>
            </a:xfrm>
            <a:prstGeom prst="leftArrow">
              <a:avLst>
                <a:gd name="adj1" fmla="val 50000"/>
                <a:gd name="adj2" fmla="val 108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>
              <a:off x="5489280" y="836640"/>
              <a:ext cx="83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Link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Sans"/>
                </a:rPr>
                <a:t>Extracto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RL frontier visit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iven a page P, define how 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good</a:t>
            </a:r>
            <a:r>
              <a:rPr b="0" lang="ja-JP" sz="2600" spc="-1" strike="noStrike">
                <a:solidFill>
                  <a:srgbClr val="000000"/>
                </a:solidFill>
                <a:latin typeface="Lucida San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P i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ral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metric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via priority assignment)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FS, DFS, Rando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pularity driven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PageRan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full vs parti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pic driven or focused crawl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How to fast check whether the URL is new ?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62"/>
          <p:cNvGrpSpPr/>
          <p:nvPr/>
        </p:nvGrpSpPr>
        <p:grpSpPr>
          <a:xfrm>
            <a:off x="3394080" y="4740120"/>
            <a:ext cx="5715000" cy="2120400"/>
            <a:chOff x="3394080" y="4740120"/>
            <a:chExt cx="5715000" cy="2120400"/>
          </a:xfrm>
        </p:grpSpPr>
        <p:sp>
          <p:nvSpPr>
            <p:cNvPr id="279" name="Rectangle 6"/>
            <p:cNvSpPr/>
            <p:nvPr/>
          </p:nvSpPr>
          <p:spPr>
            <a:xfrm>
              <a:off x="3492360" y="5715000"/>
              <a:ext cx="54252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ck 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sed on min-heap &amp; priority = waiting tim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8"/>
            <p:cNvSpPr/>
            <p:nvPr/>
          </p:nvSpPr>
          <p:spPr>
            <a:xfrm>
              <a:off x="3394080" y="4740120"/>
              <a:ext cx="5715000" cy="825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 back queue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Single host on each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Line 45"/>
            <p:cNvSpPr/>
            <p:nvPr/>
          </p:nvSpPr>
          <p:spPr>
            <a:xfrm>
              <a:off x="52992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Line 46"/>
            <p:cNvSpPr/>
            <p:nvPr/>
          </p:nvSpPr>
          <p:spPr>
            <a:xfrm>
              <a:off x="54514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Line 47"/>
            <p:cNvSpPr/>
            <p:nvPr/>
          </p:nvSpPr>
          <p:spPr>
            <a:xfrm>
              <a:off x="56037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4" name="Line 48"/>
            <p:cNvSpPr/>
            <p:nvPr/>
          </p:nvSpPr>
          <p:spPr>
            <a:xfrm>
              <a:off x="57564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5" name="Line 49"/>
            <p:cNvSpPr/>
            <p:nvPr/>
          </p:nvSpPr>
          <p:spPr>
            <a:xfrm>
              <a:off x="59086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6" name="Line 50"/>
            <p:cNvSpPr/>
            <p:nvPr/>
          </p:nvSpPr>
          <p:spPr>
            <a:xfrm>
              <a:off x="60609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7" name="Line 51"/>
            <p:cNvSpPr/>
            <p:nvPr/>
          </p:nvSpPr>
          <p:spPr>
            <a:xfrm>
              <a:off x="62136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8" name="Line 52"/>
            <p:cNvSpPr/>
            <p:nvPr/>
          </p:nvSpPr>
          <p:spPr>
            <a:xfrm>
              <a:off x="63658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9" name="Line 53"/>
            <p:cNvSpPr/>
            <p:nvPr/>
          </p:nvSpPr>
          <p:spPr>
            <a:xfrm>
              <a:off x="65181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0" name="Line 54"/>
            <p:cNvSpPr/>
            <p:nvPr/>
          </p:nvSpPr>
          <p:spPr>
            <a:xfrm>
              <a:off x="667080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1" name="Line 55"/>
            <p:cNvSpPr/>
            <p:nvPr/>
          </p:nvSpPr>
          <p:spPr>
            <a:xfrm>
              <a:off x="682308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2" name="Line 56"/>
            <p:cNvSpPr/>
            <p:nvPr/>
          </p:nvSpPr>
          <p:spPr>
            <a:xfrm>
              <a:off x="697536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3" name="Line 69"/>
            <p:cNvSpPr/>
            <p:nvPr/>
          </p:nvSpPr>
          <p:spPr>
            <a:xfrm>
              <a:off x="6213600" y="6324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4" name="Text Box 71"/>
            <p:cNvSpPr/>
            <p:nvPr/>
          </p:nvSpPr>
          <p:spPr>
            <a:xfrm>
              <a:off x="4240440" y="6400800"/>
              <a:ext cx="431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rawl thread requesting UR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rcato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6" name="Group 61"/>
          <p:cNvGrpSpPr/>
          <p:nvPr/>
        </p:nvGrpSpPr>
        <p:grpSpPr>
          <a:xfrm>
            <a:off x="4281120" y="3777480"/>
            <a:ext cx="4152240" cy="1023120"/>
            <a:chOff x="4281120" y="3777480"/>
            <a:chExt cx="4152240" cy="1023120"/>
          </a:xfrm>
        </p:grpSpPr>
        <p:sp>
          <p:nvSpPr>
            <p:cNvPr id="297" name="Rectangle 5"/>
            <p:cNvSpPr/>
            <p:nvPr/>
          </p:nvSpPr>
          <p:spPr>
            <a:xfrm>
              <a:off x="4281120" y="3777480"/>
              <a:ext cx="41522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iased front-queue selecto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Politeness) Back queu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>
              <a:off x="52992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99" name="Line 34"/>
            <p:cNvSpPr/>
            <p:nvPr/>
          </p:nvSpPr>
          <p:spPr>
            <a:xfrm>
              <a:off x="54514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0" name="Line 35"/>
            <p:cNvSpPr/>
            <p:nvPr/>
          </p:nvSpPr>
          <p:spPr>
            <a:xfrm>
              <a:off x="56041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>
              <a:off x="5756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5908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60613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4" name="Line 39"/>
            <p:cNvSpPr/>
            <p:nvPr/>
          </p:nvSpPr>
          <p:spPr>
            <a:xfrm>
              <a:off x="62136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5" name="Line 40"/>
            <p:cNvSpPr/>
            <p:nvPr/>
          </p:nvSpPr>
          <p:spPr>
            <a:xfrm>
              <a:off x="636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6" name="Line 41"/>
            <p:cNvSpPr/>
            <p:nvPr/>
          </p:nvSpPr>
          <p:spPr>
            <a:xfrm>
              <a:off x="65185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7" name="Line 42"/>
            <p:cNvSpPr/>
            <p:nvPr/>
          </p:nvSpPr>
          <p:spPr>
            <a:xfrm>
              <a:off x="66708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8" name="Line 43"/>
            <p:cNvSpPr/>
            <p:nvPr/>
          </p:nvSpPr>
          <p:spPr>
            <a:xfrm>
              <a:off x="68230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09" name="Line 44"/>
            <p:cNvSpPr/>
            <p:nvPr/>
          </p:nvSpPr>
          <p:spPr>
            <a:xfrm>
              <a:off x="6975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10" name="Group 64"/>
          <p:cNvGrpSpPr/>
          <p:nvPr/>
        </p:nvGrpSpPr>
        <p:grpSpPr>
          <a:xfrm>
            <a:off x="3622680" y="1447920"/>
            <a:ext cx="5181480" cy="2361960"/>
            <a:chOff x="3622680" y="1447920"/>
            <a:chExt cx="5181480" cy="2361960"/>
          </a:xfrm>
        </p:grpSpPr>
        <p:grpSp>
          <p:nvGrpSpPr>
            <p:cNvPr id="311" name="Group 63"/>
            <p:cNvGrpSpPr/>
            <p:nvPr/>
          </p:nvGrpSpPr>
          <p:grpSpPr>
            <a:xfrm>
              <a:off x="3622680" y="1828800"/>
              <a:ext cx="5181480" cy="1981080"/>
              <a:chOff x="3622680" y="1828800"/>
              <a:chExt cx="5181480" cy="1981080"/>
            </a:xfrm>
          </p:grpSpPr>
          <p:sp>
            <p:nvSpPr>
              <p:cNvPr id="312" name="Rectangle 4"/>
              <p:cNvSpPr/>
              <p:nvPr/>
            </p:nvSpPr>
            <p:spPr>
              <a:xfrm>
                <a:off x="4613040" y="2133360"/>
                <a:ext cx="31240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Prioritizer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3" name="Text Box 7"/>
              <p:cNvSpPr/>
              <p:nvPr/>
            </p:nvSpPr>
            <p:spPr>
              <a:xfrm>
                <a:off x="3622680" y="2971800"/>
                <a:ext cx="5181480" cy="4597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 front queues (K priorities)</a:t>
                </a:r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>
                <a:off x="52988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Line 10"/>
              <p:cNvSpPr/>
              <p:nvPr/>
            </p:nvSpPr>
            <p:spPr>
              <a:xfrm>
                <a:off x="54514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6" name="Line 11"/>
              <p:cNvSpPr/>
              <p:nvPr/>
            </p:nvSpPr>
            <p:spPr>
              <a:xfrm>
                <a:off x="56037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7" name="Line 12"/>
              <p:cNvSpPr/>
              <p:nvPr/>
            </p:nvSpPr>
            <p:spPr>
              <a:xfrm>
                <a:off x="575604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Line 13"/>
              <p:cNvSpPr/>
              <p:nvPr/>
            </p:nvSpPr>
            <p:spPr>
              <a:xfrm>
                <a:off x="59086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Line 14"/>
              <p:cNvSpPr/>
              <p:nvPr/>
            </p:nvSpPr>
            <p:spPr>
              <a:xfrm>
                <a:off x="60609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0" name="Line 15"/>
              <p:cNvSpPr/>
              <p:nvPr/>
            </p:nvSpPr>
            <p:spPr>
              <a:xfrm>
                <a:off x="62136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Line 16"/>
              <p:cNvSpPr/>
              <p:nvPr/>
            </p:nvSpPr>
            <p:spPr>
              <a:xfrm>
                <a:off x="63658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2" name="Line 17"/>
              <p:cNvSpPr/>
              <p:nvPr/>
            </p:nvSpPr>
            <p:spPr>
              <a:xfrm>
                <a:off x="65181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667080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682308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6975360" y="274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52988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7" name="Line 57"/>
              <p:cNvSpPr/>
              <p:nvPr/>
            </p:nvSpPr>
            <p:spPr>
              <a:xfrm>
                <a:off x="54514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8" name="Line 58"/>
              <p:cNvSpPr/>
              <p:nvPr/>
            </p:nvSpPr>
            <p:spPr>
              <a:xfrm>
                <a:off x="56037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9" name="Line 59"/>
              <p:cNvSpPr/>
              <p:nvPr/>
            </p:nvSpPr>
            <p:spPr>
              <a:xfrm>
                <a:off x="57560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0" name="Line 60"/>
              <p:cNvSpPr/>
              <p:nvPr/>
            </p:nvSpPr>
            <p:spPr>
              <a:xfrm>
                <a:off x="59086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1" name="Line 61"/>
              <p:cNvSpPr/>
              <p:nvPr/>
            </p:nvSpPr>
            <p:spPr>
              <a:xfrm>
                <a:off x="60609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2" name="Line 62"/>
              <p:cNvSpPr/>
              <p:nvPr/>
            </p:nvSpPr>
            <p:spPr>
              <a:xfrm>
                <a:off x="62136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3" name="Line 63"/>
              <p:cNvSpPr/>
              <p:nvPr/>
            </p:nvSpPr>
            <p:spPr>
              <a:xfrm>
                <a:off x="63658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4" name="Line 64"/>
              <p:cNvSpPr/>
              <p:nvPr/>
            </p:nvSpPr>
            <p:spPr>
              <a:xfrm>
                <a:off x="65181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5" name="Line 65"/>
              <p:cNvSpPr/>
              <p:nvPr/>
            </p:nvSpPr>
            <p:spPr>
              <a:xfrm>
                <a:off x="66708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6" name="Line 66"/>
              <p:cNvSpPr/>
              <p:nvPr/>
            </p:nvSpPr>
            <p:spPr>
              <a:xfrm>
                <a:off x="68230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7" name="Line 67"/>
              <p:cNvSpPr/>
              <p:nvPr/>
            </p:nvSpPr>
            <p:spPr>
              <a:xfrm>
                <a:off x="69753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38" name="Line 68"/>
              <p:cNvSpPr/>
              <p:nvPr/>
            </p:nvSpPr>
            <p:spPr>
              <a:xfrm>
                <a:off x="6213600" y="18288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39" name="Text Box 70"/>
            <p:cNvSpPr/>
            <p:nvPr/>
          </p:nvSpPr>
          <p:spPr>
            <a:xfrm>
              <a:off x="5747400" y="144792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40" name="TextBox 60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Rettangolo 1"/>
          <p:cNvSpPr/>
          <p:nvPr/>
        </p:nvSpPr>
        <p:spPr>
          <a:xfrm>
            <a:off x="139680" y="1733400"/>
            <a:ext cx="348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one connection is open at a time to any host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 waiting time of a few seconds occurs between successive requests to the same host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buClr>
                <a:srgbClr val="000000"/>
              </a:buClr>
              <a:buSzPct val="6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high-priority pages are crawled preferentially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crawl processing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crawler thread seeking a URL to crawl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Extracts the root of the heap: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o it is an URL at the head of some back queu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 (so remove i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Wait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indicated time 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Lucida San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Parses URL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nd adds its out-links to the Front que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back queue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gets emp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pulls a 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URL </a:t>
            </a:r>
            <a:r>
              <a:rPr b="1" i="1" lang="en-US" sz="2400" spc="-1" strike="noStrike">
                <a:solidFill>
                  <a:srgbClr val="c00000"/>
                </a:solidFill>
                <a:latin typeface="Lucida Sans"/>
              </a:rPr>
              <a:t>v</a:t>
            </a:r>
            <a:r>
              <a:rPr b="1" lang="en-US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rom some front queu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</a:rPr>
              <a:t>(more prob for higher queu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there’s already a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 host, append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o it and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epea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lse, mak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the back queue fo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v’s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-305280">
              <a:spcBef>
                <a:spcPts val="18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f back queue </a:t>
            </a:r>
            <a:r>
              <a:rPr b="0" i="1" lang="en-US" sz="2400" spc="-1" strike="noStrike">
                <a:solidFill>
                  <a:srgbClr val="c0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00000"/>
                </a:solidFill>
                <a:latin typeface="Lucida Sans"/>
              </a:rPr>
              <a:t> is non-empty,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ick URL and add it to the min-heap with priority = waiting time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Lucida Sans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600" spc="-1" strike="noStrike">
                <a:solidFill>
                  <a:srgbClr val="007254"/>
                </a:solidFill>
                <a:latin typeface="Lucida Sans"/>
              </a:rPr>
              <a:t>Keep crawl threads busy (B = 3 x K)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Front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Front queu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manage prioritizati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ioritizer assigns to an URL an integer priority (refresh, quality, appl-specific) between 1 and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ends URL to corresponding queu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8" name="Gruppo 4"/>
          <p:cNvGrpSpPr/>
          <p:nvPr/>
        </p:nvGrpSpPr>
        <p:grpSpPr>
          <a:xfrm>
            <a:off x="990720" y="3143160"/>
            <a:ext cx="7181640" cy="3551400"/>
            <a:chOff x="990720" y="3143160"/>
            <a:chExt cx="7181640" cy="3551400"/>
          </a:xfrm>
        </p:grpSpPr>
        <p:sp>
          <p:nvSpPr>
            <p:cNvPr id="349" name="Line 4"/>
            <p:cNvSpPr/>
            <p:nvPr/>
          </p:nvSpPr>
          <p:spPr>
            <a:xfrm>
              <a:off x="4361760" y="3212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0" name="Text Box 5"/>
            <p:cNvSpPr/>
            <p:nvPr/>
          </p:nvSpPr>
          <p:spPr>
            <a:xfrm>
              <a:off x="2749320" y="3143160"/>
              <a:ext cx="3224520" cy="86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rioritize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assigns to a queue)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Line 12"/>
            <p:cNvSpPr/>
            <p:nvPr/>
          </p:nvSpPr>
          <p:spPr>
            <a:xfrm>
              <a:off x="99072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Line 13"/>
            <p:cNvSpPr/>
            <p:nvPr/>
          </p:nvSpPr>
          <p:spPr>
            <a:xfrm flipH="1">
              <a:off x="990720" y="496188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Line 14"/>
            <p:cNvSpPr/>
            <p:nvPr/>
          </p:nvSpPr>
          <p:spPr>
            <a:xfrm flipH="1">
              <a:off x="990720" y="45378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990720" y="538596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H="1">
              <a:off x="990720" y="57042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990720" y="41670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V="1">
              <a:off x="157680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Line 19"/>
            <p:cNvSpPr/>
            <p:nvPr/>
          </p:nvSpPr>
          <p:spPr>
            <a:xfrm>
              <a:off x="201672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Line 20"/>
            <p:cNvSpPr/>
            <p:nvPr/>
          </p:nvSpPr>
          <p:spPr>
            <a:xfrm flipH="1">
              <a:off x="2016720" y="496188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Line 21"/>
            <p:cNvSpPr/>
            <p:nvPr/>
          </p:nvSpPr>
          <p:spPr>
            <a:xfrm flipH="1">
              <a:off x="2016720" y="45378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Line 22"/>
            <p:cNvSpPr/>
            <p:nvPr/>
          </p:nvSpPr>
          <p:spPr>
            <a:xfrm flipH="1">
              <a:off x="2016720" y="538596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Line 23"/>
            <p:cNvSpPr/>
            <p:nvPr/>
          </p:nvSpPr>
          <p:spPr>
            <a:xfrm flipH="1">
              <a:off x="2016720" y="57042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Line 24"/>
            <p:cNvSpPr/>
            <p:nvPr/>
          </p:nvSpPr>
          <p:spPr>
            <a:xfrm>
              <a:off x="2016720" y="41670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 flipV="1">
              <a:off x="260280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Line 26"/>
            <p:cNvSpPr/>
            <p:nvPr/>
          </p:nvSpPr>
          <p:spPr>
            <a:xfrm>
              <a:off x="656028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Line 27"/>
            <p:cNvSpPr/>
            <p:nvPr/>
          </p:nvSpPr>
          <p:spPr>
            <a:xfrm flipH="1">
              <a:off x="6560280" y="496188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 flipH="1">
              <a:off x="6560280" y="45378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Line 29"/>
            <p:cNvSpPr/>
            <p:nvPr/>
          </p:nvSpPr>
          <p:spPr>
            <a:xfrm flipH="1">
              <a:off x="6560280" y="538596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Line 30"/>
            <p:cNvSpPr/>
            <p:nvPr/>
          </p:nvSpPr>
          <p:spPr>
            <a:xfrm flipH="1">
              <a:off x="6560280" y="57042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Line 31"/>
            <p:cNvSpPr/>
            <p:nvPr/>
          </p:nvSpPr>
          <p:spPr>
            <a:xfrm>
              <a:off x="6560280" y="41670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Line 32"/>
            <p:cNvSpPr/>
            <p:nvPr/>
          </p:nvSpPr>
          <p:spPr>
            <a:xfrm flipV="1">
              <a:off x="714636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2" name="Line 33"/>
            <p:cNvSpPr/>
            <p:nvPr/>
          </p:nvSpPr>
          <p:spPr>
            <a:xfrm>
              <a:off x="758628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3" name="Line 34"/>
            <p:cNvSpPr/>
            <p:nvPr/>
          </p:nvSpPr>
          <p:spPr>
            <a:xfrm flipH="1">
              <a:off x="7586280" y="496188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4" name="Line 35"/>
            <p:cNvSpPr/>
            <p:nvPr/>
          </p:nvSpPr>
          <p:spPr>
            <a:xfrm flipH="1">
              <a:off x="7586280" y="45378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5" name="Line 36"/>
            <p:cNvSpPr/>
            <p:nvPr/>
          </p:nvSpPr>
          <p:spPr>
            <a:xfrm flipH="1">
              <a:off x="7586280" y="538596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6" name="Line 37"/>
            <p:cNvSpPr/>
            <p:nvPr/>
          </p:nvSpPr>
          <p:spPr>
            <a:xfrm flipH="1">
              <a:off x="7586280" y="57042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7" name="Line 38"/>
            <p:cNvSpPr/>
            <p:nvPr/>
          </p:nvSpPr>
          <p:spPr>
            <a:xfrm>
              <a:off x="7586280" y="4167000"/>
              <a:ext cx="586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8172360" y="4167000"/>
              <a:ext cx="0" cy="153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3115800" y="480312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3702240" y="480312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1" name="Oval 42"/>
            <p:cNvSpPr/>
            <p:nvPr/>
          </p:nvSpPr>
          <p:spPr>
            <a:xfrm>
              <a:off x="4434840" y="480312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2" name="Oval 43"/>
            <p:cNvSpPr/>
            <p:nvPr/>
          </p:nvSpPr>
          <p:spPr>
            <a:xfrm>
              <a:off x="5167800" y="480312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3" name="Oval 44"/>
            <p:cNvSpPr/>
            <p:nvPr/>
          </p:nvSpPr>
          <p:spPr>
            <a:xfrm>
              <a:off x="5827320" y="4803120"/>
              <a:ext cx="146520" cy="1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4" name="Text Box 45"/>
            <p:cNvSpPr/>
            <p:nvPr/>
          </p:nvSpPr>
          <p:spPr>
            <a:xfrm>
              <a:off x="1082520" y="3741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5" name="Text Box 46"/>
            <p:cNvSpPr/>
            <p:nvPr/>
          </p:nvSpPr>
          <p:spPr>
            <a:xfrm>
              <a:off x="7743240" y="37414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86" name="Rectangle 48"/>
            <p:cNvSpPr/>
            <p:nvPr/>
          </p:nvSpPr>
          <p:spPr>
            <a:xfrm>
              <a:off x="3077640" y="6164280"/>
              <a:ext cx="30092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Routing to Back queu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387" name="AutoShape 50"/>
            <p:cNvCxnSpPr>
              <a:stCxn id="350" idx="2"/>
              <a:endCxn id="356" idx="0"/>
            </p:cNvCxnSpPr>
            <p:nvPr/>
          </p:nvCxnSpPr>
          <p:spPr>
            <a:xfrm flipH="1">
              <a:off x="1576080" y="4004640"/>
              <a:ext cx="2785320" cy="16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51"/>
            <p:cNvCxnSpPr>
              <a:stCxn id="350" idx="2"/>
              <a:endCxn id="363" idx="0"/>
            </p:cNvCxnSpPr>
            <p:nvPr/>
          </p:nvCxnSpPr>
          <p:spPr>
            <a:xfrm flipH="1">
              <a:off x="2602080" y="4004640"/>
              <a:ext cx="1759320" cy="16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9" name="AutoShape 52"/>
            <p:cNvCxnSpPr>
              <a:stCxn id="350" idx="2"/>
              <a:endCxn id="370" idx="0"/>
            </p:cNvCxnSpPr>
            <p:nvPr/>
          </p:nvCxnSpPr>
          <p:spPr>
            <a:xfrm>
              <a:off x="4361400" y="4004640"/>
              <a:ext cx="2199240" cy="16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0" name="AutoShape 53"/>
            <p:cNvCxnSpPr>
              <a:stCxn id="350" idx="2"/>
              <a:endCxn id="377" idx="0"/>
            </p:cNvCxnSpPr>
            <p:nvPr/>
          </p:nvCxnSpPr>
          <p:spPr>
            <a:xfrm>
              <a:off x="4361400" y="4004640"/>
              <a:ext cx="3225240" cy="16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AutoShape 54"/>
            <p:cNvCxnSpPr>
              <a:stCxn id="355" idx="0"/>
              <a:endCxn id="386" idx="0"/>
            </p:cNvCxnSpPr>
            <p:nvPr/>
          </p:nvCxnSpPr>
          <p:spPr>
            <a:xfrm>
              <a:off x="1576800" y="5703840"/>
              <a:ext cx="3006000" cy="46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AutoShape 56"/>
            <p:cNvCxnSpPr>
              <a:stCxn id="364" idx="0"/>
              <a:endCxn id="386" idx="0"/>
            </p:cNvCxnSpPr>
            <p:nvPr/>
          </p:nvCxnSpPr>
          <p:spPr>
            <a:xfrm>
              <a:off x="2602800" y="5703840"/>
              <a:ext cx="1980000" cy="46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AutoShape 57"/>
            <p:cNvCxnSpPr>
              <a:stCxn id="365" idx="0"/>
              <a:endCxn id="386" idx="0"/>
            </p:cNvCxnSpPr>
            <p:nvPr/>
          </p:nvCxnSpPr>
          <p:spPr>
            <a:xfrm flipH="1">
              <a:off x="4582080" y="5703840"/>
              <a:ext cx="1978560" cy="46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AutoShape 58"/>
            <p:cNvCxnSpPr>
              <a:stCxn id="376" idx="0"/>
              <a:endCxn id="386" idx="0"/>
            </p:cNvCxnSpPr>
            <p:nvPr/>
          </p:nvCxnSpPr>
          <p:spPr>
            <a:xfrm flipH="1">
              <a:off x="4582080" y="5703840"/>
              <a:ext cx="3004560" cy="46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5" name="Line 59"/>
            <p:cNvSpPr/>
            <p:nvPr/>
          </p:nvSpPr>
          <p:spPr>
            <a:xfrm>
              <a:off x="4573800" y="653580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wo main difficul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136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336600"/>
                </a:solidFill>
                <a:latin typeface="Tahoma"/>
              </a:rPr>
              <a:t>Size: </a:t>
            </a:r>
            <a:r>
              <a:rPr b="0" lang="it-IT" sz="2100" spc="-1" strike="noStrike">
                <a:solidFill>
                  <a:srgbClr val="000000"/>
                </a:solidFill>
                <a:latin typeface="Tahoma"/>
              </a:rPr>
              <a:t>more than 1 trillion pages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Language and encodings:</a:t>
            </a:r>
            <a:r>
              <a:rPr b="0" lang="en-US" sz="2100" spc="-1" strike="noStrike">
                <a:solidFill>
                  <a:srgbClr val="00a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undreds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istributed authorship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SPAM, format-less,…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00"/>
                </a:solidFill>
                <a:latin typeface="Tahoma"/>
              </a:rPr>
              <a:t>Dynamic: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in one year 35% survive, 20% untouched</a:t>
            </a:r>
            <a:endParaRPr b="0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Use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Tahoma"/>
              </a:rPr>
              <a:t>Query composition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(2.5 terms avg) and impreci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00"/>
                </a:solidFill>
                <a:latin typeface="Tahoma"/>
              </a:rPr>
              <a:t>Query result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85% users look at just one result-p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Several need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al, Navigational, Transac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348000" y="163764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xtracting “significant data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466520"/>
            <a:ext cx="5502240" cy="4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atching “user needs” is difficult !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Back queu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482480"/>
            <a:ext cx="806292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000"/>
                </a:solidFill>
                <a:latin typeface="Lucida Sans"/>
              </a:rPr>
              <a:t>Back queu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enforce </a:t>
            </a:r>
            <a:r>
              <a:rPr b="1" lang="en-US" sz="2400" spc="-1" strike="noStrike">
                <a:solidFill>
                  <a:srgbClr val="0070c0"/>
                </a:solidFill>
                <a:latin typeface="Lucida Sans"/>
              </a:rPr>
              <a:t>politenes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is kept non-empt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ach back queue contains only URLs from a </a:t>
            </a:r>
            <a:r>
              <a:rPr b="1" lang="en-US" sz="2000" spc="-1" strike="noStrike">
                <a:solidFill>
                  <a:srgbClr val="ff0000"/>
                </a:solidFill>
                <a:latin typeface="Lucida Sans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ho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99" name="Gruppo 4"/>
          <p:cNvGrpSpPr/>
          <p:nvPr/>
        </p:nvGrpSpPr>
        <p:grpSpPr>
          <a:xfrm>
            <a:off x="1402920" y="2774880"/>
            <a:ext cx="6193440" cy="4038840"/>
            <a:chOff x="1402920" y="2774880"/>
            <a:chExt cx="6193440" cy="4038840"/>
          </a:xfrm>
        </p:grpSpPr>
        <p:sp>
          <p:nvSpPr>
            <p:cNvPr id="400" name="Rectangle 5"/>
            <p:cNvSpPr/>
            <p:nvPr/>
          </p:nvSpPr>
          <p:spPr>
            <a:xfrm>
              <a:off x="1617840" y="2774880"/>
              <a:ext cx="54036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Back queue request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 Select a front queue 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0c0"/>
                  </a:solidFill>
                  <a:latin typeface="Lucida Sans"/>
                  <a:ea typeface="Arial Unicode MS"/>
                </a:rPr>
                <a:t>randomly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, biasing towards </a:t>
              </a: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higher queue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1" name="Rectangle 6"/>
            <p:cNvSpPr/>
            <p:nvPr/>
          </p:nvSpPr>
          <p:spPr>
            <a:xfrm>
              <a:off x="2667600" y="6109920"/>
              <a:ext cx="281520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URL selector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(pick min, parse and push)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2" name="Line 7"/>
            <p:cNvSpPr/>
            <p:nvPr/>
          </p:nvSpPr>
          <p:spPr>
            <a:xfrm>
              <a:off x="4275360" y="657936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3" name="Line 8"/>
            <p:cNvSpPr/>
            <p:nvPr/>
          </p:nvSpPr>
          <p:spPr>
            <a:xfrm>
              <a:off x="1403280" y="3998520"/>
              <a:ext cx="0" cy="170100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 flipH="1">
              <a:off x="140292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5" name="Line 10"/>
            <p:cNvSpPr/>
            <p:nvPr/>
          </p:nvSpPr>
          <p:spPr>
            <a:xfrm flipH="1">
              <a:off x="1402920" y="44089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 flipH="1">
              <a:off x="1402920" y="534744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7" name="Line 12"/>
            <p:cNvSpPr/>
            <p:nvPr/>
          </p:nvSpPr>
          <p:spPr>
            <a:xfrm flipH="1">
              <a:off x="140292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8" name="Line 13"/>
            <p:cNvSpPr/>
            <p:nvPr/>
          </p:nvSpPr>
          <p:spPr>
            <a:xfrm>
              <a:off x="1403280" y="3998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09" name="Line 14"/>
            <p:cNvSpPr/>
            <p:nvPr/>
          </p:nvSpPr>
          <p:spPr>
            <a:xfrm flipV="1">
              <a:off x="1886040" y="3998160"/>
              <a:ext cx="0" cy="170100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0" name="Line 15"/>
            <p:cNvSpPr/>
            <p:nvPr/>
          </p:nvSpPr>
          <p:spPr>
            <a:xfrm>
              <a:off x="2248560" y="3998520"/>
              <a:ext cx="0" cy="170100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1" name="Line 16"/>
            <p:cNvSpPr/>
            <p:nvPr/>
          </p:nvSpPr>
          <p:spPr>
            <a:xfrm flipH="1">
              <a:off x="224820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2" name="Line 17"/>
            <p:cNvSpPr/>
            <p:nvPr/>
          </p:nvSpPr>
          <p:spPr>
            <a:xfrm flipH="1">
              <a:off x="2248200" y="44089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3" name="Line 18"/>
            <p:cNvSpPr/>
            <p:nvPr/>
          </p:nvSpPr>
          <p:spPr>
            <a:xfrm flipH="1">
              <a:off x="2248200" y="534744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4" name="Line 19"/>
            <p:cNvSpPr/>
            <p:nvPr/>
          </p:nvSpPr>
          <p:spPr>
            <a:xfrm flipH="1">
              <a:off x="224820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5" name="Line 20"/>
            <p:cNvSpPr/>
            <p:nvPr/>
          </p:nvSpPr>
          <p:spPr>
            <a:xfrm>
              <a:off x="2248560" y="3998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6" name="Line 21"/>
            <p:cNvSpPr/>
            <p:nvPr/>
          </p:nvSpPr>
          <p:spPr>
            <a:xfrm flipV="1">
              <a:off x="2731680" y="3998160"/>
              <a:ext cx="0" cy="170100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7" name="Line 22"/>
            <p:cNvSpPr/>
            <p:nvPr/>
          </p:nvSpPr>
          <p:spPr>
            <a:xfrm>
              <a:off x="5992560" y="3998520"/>
              <a:ext cx="0" cy="170100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 flipH="1">
              <a:off x="599220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19" name="Line 24"/>
            <p:cNvSpPr/>
            <p:nvPr/>
          </p:nvSpPr>
          <p:spPr>
            <a:xfrm flipH="1">
              <a:off x="5992200" y="44089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0" name="Line 25"/>
            <p:cNvSpPr/>
            <p:nvPr/>
          </p:nvSpPr>
          <p:spPr>
            <a:xfrm flipH="1">
              <a:off x="5992200" y="534744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1" name="Line 26"/>
            <p:cNvSpPr/>
            <p:nvPr/>
          </p:nvSpPr>
          <p:spPr>
            <a:xfrm flipH="1">
              <a:off x="599220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2" name="Line 27"/>
            <p:cNvSpPr/>
            <p:nvPr/>
          </p:nvSpPr>
          <p:spPr>
            <a:xfrm>
              <a:off x="5992560" y="3998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3" name="Line 28"/>
            <p:cNvSpPr/>
            <p:nvPr/>
          </p:nvSpPr>
          <p:spPr>
            <a:xfrm flipV="1">
              <a:off x="6475680" y="3998160"/>
              <a:ext cx="0" cy="170100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4" name="Line 29"/>
            <p:cNvSpPr/>
            <p:nvPr/>
          </p:nvSpPr>
          <p:spPr>
            <a:xfrm>
              <a:off x="6837840" y="3998520"/>
              <a:ext cx="0" cy="170100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5" name="Line 30"/>
            <p:cNvSpPr/>
            <p:nvPr/>
          </p:nvSpPr>
          <p:spPr>
            <a:xfrm flipH="1">
              <a:off x="6837480" y="487836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6" name="Line 31"/>
            <p:cNvSpPr/>
            <p:nvPr/>
          </p:nvSpPr>
          <p:spPr>
            <a:xfrm flipH="1">
              <a:off x="6837480" y="44089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7" name="Line 32"/>
            <p:cNvSpPr/>
            <p:nvPr/>
          </p:nvSpPr>
          <p:spPr>
            <a:xfrm flipH="1">
              <a:off x="6837480" y="534744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8" name="Line 33"/>
            <p:cNvSpPr/>
            <p:nvPr/>
          </p:nvSpPr>
          <p:spPr>
            <a:xfrm flipH="1">
              <a:off x="6837480" y="5699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29" name="Line 34"/>
            <p:cNvSpPr/>
            <p:nvPr/>
          </p:nvSpPr>
          <p:spPr>
            <a:xfrm>
              <a:off x="6837840" y="3998520"/>
              <a:ext cx="482760" cy="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0" name="Line 35"/>
            <p:cNvSpPr/>
            <p:nvPr/>
          </p:nvSpPr>
          <p:spPr>
            <a:xfrm flipV="1">
              <a:off x="7320960" y="3998160"/>
              <a:ext cx="0" cy="1701000"/>
            </a:xfrm>
            <a:prstGeom prst="line">
              <a:avLst/>
            </a:prstGeom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1" name="Oval 36"/>
            <p:cNvSpPr/>
            <p:nvPr/>
          </p:nvSpPr>
          <p:spPr>
            <a:xfrm>
              <a:off x="3154320" y="470232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2" name="Oval 37"/>
            <p:cNvSpPr/>
            <p:nvPr/>
          </p:nvSpPr>
          <p:spPr>
            <a:xfrm>
              <a:off x="3637440" y="470232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3" name="Oval 38"/>
            <p:cNvSpPr/>
            <p:nvPr/>
          </p:nvSpPr>
          <p:spPr>
            <a:xfrm>
              <a:off x="4241160" y="470232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4" name="Oval 39"/>
            <p:cNvSpPr/>
            <p:nvPr/>
          </p:nvSpPr>
          <p:spPr>
            <a:xfrm>
              <a:off x="4845240" y="470232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5" name="Oval 40"/>
            <p:cNvSpPr/>
            <p:nvPr/>
          </p:nvSpPr>
          <p:spPr>
            <a:xfrm>
              <a:off x="5388480" y="4702320"/>
              <a:ext cx="120600" cy="117000"/>
            </a:xfrm>
            <a:prstGeom prst="ellipse">
              <a:avLst/>
            </a:prstGeom>
            <a:solidFill>
              <a:srgbClr val="00a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6" name="Text Box 41"/>
            <p:cNvSpPr/>
            <p:nvPr/>
          </p:nvSpPr>
          <p:spPr>
            <a:xfrm>
              <a:off x="1421280" y="3599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37" name="Text Box 42"/>
            <p:cNvSpPr/>
            <p:nvPr/>
          </p:nvSpPr>
          <p:spPr>
            <a:xfrm>
              <a:off x="6903720" y="3531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000"/>
                  </a:solidFill>
                  <a:latin typeface="Lucida San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cxnSp>
          <p:nvCxnSpPr>
            <p:cNvPr id="438" name="AutoShape 43"/>
            <p:cNvCxnSpPr>
              <a:endCxn id="408" idx="0"/>
            </p:cNvCxnSpPr>
            <p:nvPr/>
          </p:nvCxnSpPr>
          <p:spPr>
            <a:xfrm flipH="1">
              <a:off x="1885680" y="3477960"/>
              <a:ext cx="2295360" cy="52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9" name="AutoShape 44"/>
            <p:cNvCxnSpPr>
              <a:endCxn id="415" idx="0"/>
            </p:cNvCxnSpPr>
            <p:nvPr/>
          </p:nvCxnSpPr>
          <p:spPr>
            <a:xfrm flipH="1">
              <a:off x="2730960" y="3477960"/>
              <a:ext cx="1449720" cy="52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0" name="AutoShape 45"/>
            <p:cNvCxnSpPr>
              <a:endCxn id="422" idx="0"/>
            </p:cNvCxnSpPr>
            <p:nvPr/>
          </p:nvCxnSpPr>
          <p:spPr>
            <a:xfrm>
              <a:off x="4181040" y="3477960"/>
              <a:ext cx="1812240" cy="52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1" name="AutoShape 46"/>
            <p:cNvCxnSpPr>
              <a:endCxn id="429" idx="0"/>
            </p:cNvCxnSpPr>
            <p:nvPr/>
          </p:nvCxnSpPr>
          <p:spPr>
            <a:xfrm>
              <a:off x="4181040" y="3477960"/>
              <a:ext cx="2657160" cy="52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AutoShape 47"/>
            <p:cNvCxnSpPr>
              <a:stCxn id="407" idx="0"/>
            </p:cNvCxnSpPr>
            <p:nvPr/>
          </p:nvCxnSpPr>
          <p:spPr>
            <a:xfrm>
              <a:off x="1885680" y="5699520"/>
              <a:ext cx="4776120" cy="41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AutoShape 48"/>
            <p:cNvCxnSpPr>
              <a:stCxn id="416" idx="0"/>
              <a:endCxn id="444" idx="0"/>
            </p:cNvCxnSpPr>
            <p:nvPr/>
          </p:nvCxnSpPr>
          <p:spPr>
            <a:xfrm>
              <a:off x="2731680" y="5699520"/>
              <a:ext cx="4066560" cy="29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AutoShape 49"/>
            <p:cNvCxnSpPr>
              <a:stCxn id="417" idx="0"/>
              <a:endCxn id="444" idx="0"/>
            </p:cNvCxnSpPr>
            <p:nvPr/>
          </p:nvCxnSpPr>
          <p:spPr>
            <a:xfrm>
              <a:off x="5992560" y="5699520"/>
              <a:ext cx="805680" cy="29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6" name="AutoShape 50"/>
            <p:cNvCxnSpPr>
              <a:stCxn id="428" idx="0"/>
              <a:endCxn id="444" idx="0"/>
            </p:cNvCxnSpPr>
            <p:nvPr/>
          </p:nvCxnSpPr>
          <p:spPr>
            <a:xfrm flipH="1">
              <a:off x="6796800" y="5699520"/>
              <a:ext cx="40680" cy="29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4" name="AutoShape 51"/>
            <p:cNvSpPr/>
            <p:nvPr/>
          </p:nvSpPr>
          <p:spPr>
            <a:xfrm>
              <a:off x="6026400" y="5992560"/>
              <a:ext cx="1569960" cy="731880"/>
            </a:xfrm>
            <a:prstGeom prst="triangle">
              <a:avLst>
                <a:gd name="adj" fmla="val 49097"/>
              </a:avLst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  <a:ea typeface="Arial Unicode MS"/>
                </a:rPr>
                <a:t>min-Heap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447" name="Line 53"/>
            <p:cNvSpPr/>
            <p:nvPr/>
          </p:nvSpPr>
          <p:spPr>
            <a:xfrm flipH="1">
              <a:off x="5482800" y="6285960"/>
              <a:ext cx="9925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lang="en-US" sz="4000" spc="-1" strike="noStrike">
                <a:solidFill>
                  <a:srgbClr val="ff0000"/>
                </a:solidFill>
                <a:latin typeface="Lucida Sans"/>
              </a:rPr>
              <a:t>min-heap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It contains one entry per back queue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e entry is 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the earliest time </a:t>
            </a:r>
            <a:r>
              <a:rPr b="0" i="1" lang="en-US" sz="3000" spc="-1" strike="noStrike">
                <a:solidFill>
                  <a:srgbClr val="c00000"/>
                </a:solidFill>
                <a:latin typeface="Lucida Sans"/>
              </a:rPr>
              <a:t>t</a:t>
            </a:r>
            <a:r>
              <a:rPr b="0" i="1" lang="en-US" sz="3000" spc="-1" strike="noStrike" baseline="-25000">
                <a:solidFill>
                  <a:srgbClr val="c00000"/>
                </a:solidFill>
                <a:latin typeface="Lucida Sans"/>
              </a:rPr>
              <a:t>e</a:t>
            </a:r>
            <a:r>
              <a:rPr b="0" lang="en-US" sz="30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at which the host corresponding to the back queue can be “hit again”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This earliest time is determined from</a:t>
            </a:r>
            <a:endParaRPr b="0" lang="en-US" sz="3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t access to that hos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y time buffer heuristic we choos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7675920" y="-331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20.2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olution of Search Engin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Tahoma"/>
              </a:rPr>
              <a:t>Zero generation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use metadata added by us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use only on-page, web-text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d frequency and languag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-- use off-page, web-graph da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 (or connectivity) analy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chor-text (How people refer to a pag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ird gen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-- </a:t>
            </a:r>
            <a:r>
              <a:rPr b="0" lang="en-US" sz="2000" spc="-1" strike="noStrike">
                <a:solidFill>
                  <a:srgbClr val="0008c1"/>
                </a:solidFill>
                <a:latin typeface="Tahoma"/>
              </a:rPr>
              <a:t>answer “the need behind the query”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“user need”, rather than on 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multiple data-sour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-through dat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732720" y="2271600"/>
            <a:ext cx="2411280" cy="6426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5-1997 AltaVista, Excite, Lycos, etc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551640" y="3639960"/>
            <a:ext cx="2592360" cy="61740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8: Google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836720" y="6410160"/>
            <a:ext cx="5543640" cy="403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Fourth and current generation  </a:t>
            </a:r>
            <a:r>
              <a:rPr b="0" lang="it-IT" sz="1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  Information Suppl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227640" y="5367240"/>
            <a:ext cx="2592360" cy="69984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Google, Yahoo,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MSN, ASK,………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732720" y="1557360"/>
            <a:ext cx="2411280" cy="368280"/>
          </a:xfrm>
          <a:prstGeom prst="rect">
            <a:avLst/>
          </a:prstGeom>
          <a:solidFill>
            <a:srgbClr val="88f29c"/>
          </a:solidFill>
          <a:ln w="28440">
            <a:solidFill>
              <a:srgbClr val="9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00"/>
                </a:solidFill>
                <a:latin typeface="Arial"/>
              </a:rPr>
              <a:t>1991-.. Wandere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752120"/>
            <a:ext cx="7772400" cy="4876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1.bp.blogspot.com/-nUZ33kaVKL0/UkVlFzbTiqI/AAAAAAAAOA4/gjiWEedxeD8/s1600/Screen+Shot+2013-09-26+at+11.40.10+A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8"/>
          <p:cNvGrpSpPr/>
          <p:nvPr/>
        </p:nvGrpSpPr>
        <p:grpSpPr>
          <a:xfrm>
            <a:off x="0" y="476280"/>
            <a:ext cx="2987640" cy="6381720"/>
            <a:chOff x="0" y="476280"/>
            <a:chExt cx="2987640" cy="6381720"/>
          </a:xfrm>
        </p:grpSpPr>
        <p:sp>
          <p:nvSpPr>
            <p:cNvPr id="107" name="Rounded Rectangle 5"/>
            <p:cNvSpPr/>
            <p:nvPr/>
          </p:nvSpPr>
          <p:spPr>
            <a:xfrm>
              <a:off x="0" y="836640"/>
              <a:ext cx="2987640" cy="6021360"/>
            </a:xfrm>
            <a:custGeom>
              <a:avLst/>
              <a:gdLst>
                <a:gd name="textAreaLeft" fmla="*/ 145800 w 2987640"/>
                <a:gd name="textAreaRight" fmla="*/ 2841840 w 2987640"/>
                <a:gd name="textAreaTop" fmla="*/ 145800 h 6021360"/>
                <a:gd name="textAreaBottom" fmla="*/ 5875560 h 6021360"/>
              </a:gdLst>
              <a:ahLst/>
              <a:rect l="textAreaLeft" t="textAreaTop" r="textAreaRight" b="textAreaBottom"/>
              <a:pathLst>
                <a:path w="21600" h="43531">
                  <a:moveTo>
                    <a:pt x="3600" y="0"/>
                  </a:moveTo>
                  <a:arcTo wR="3600" hR="3600" stAng="16200000" swAng="-5400000"/>
                  <a:lnTo>
                    <a:pt x="0" y="39931"/>
                  </a:lnTo>
                  <a:arcTo wR="3600" hR="3600" stAng="10800000" swAng="-5400000"/>
                  <a:lnTo>
                    <a:pt x="18000" y="435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7575d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TextBox 7"/>
            <p:cNvSpPr/>
            <p:nvPr/>
          </p:nvSpPr>
          <p:spPr>
            <a:xfrm>
              <a:off x="885960" y="476280"/>
              <a:ext cx="160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262673"/>
                  </a:solidFill>
                  <a:latin typeface="Lucida Sans"/>
                </a:rPr>
                <a:t>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9" name="Group 10"/>
          <p:cNvGrpSpPr/>
          <p:nvPr/>
        </p:nvGrpSpPr>
        <p:grpSpPr>
          <a:xfrm>
            <a:off x="3132000" y="260280"/>
            <a:ext cx="3816360" cy="5977080"/>
            <a:chOff x="3132000" y="260280"/>
            <a:chExt cx="3816360" cy="5977080"/>
          </a:xfrm>
        </p:grpSpPr>
        <p:sp>
          <p:nvSpPr>
            <p:cNvPr id="110" name="Rounded Rectangle 6"/>
            <p:cNvSpPr/>
            <p:nvPr/>
          </p:nvSpPr>
          <p:spPr>
            <a:xfrm>
              <a:off x="3132000" y="620280"/>
              <a:ext cx="3816360" cy="5617080"/>
            </a:xfrm>
            <a:custGeom>
              <a:avLst/>
              <a:gdLst>
                <a:gd name="textAreaLeft" fmla="*/ 186120 w 3816360"/>
                <a:gd name="textAreaRight" fmla="*/ 3630240 w 3816360"/>
                <a:gd name="textAreaTop" fmla="*/ 186120 h 5617080"/>
                <a:gd name="textAreaBottom" fmla="*/ 5430960 h 5617080"/>
              </a:gdLst>
              <a:ahLst/>
              <a:rect l="textAreaLeft" t="textAreaTop" r="textAreaRight" b="textAreaBottom"/>
              <a:pathLst>
                <a:path w="21600" h="31791">
                  <a:moveTo>
                    <a:pt x="3600" y="0"/>
                  </a:moveTo>
                  <a:arcTo wR="3600" hR="3600" stAng="16200000" swAng="-5400000"/>
                  <a:lnTo>
                    <a:pt x="0" y="28191"/>
                  </a:lnTo>
                  <a:arcTo wR="3600" hR="3600" stAng="10800000" swAng="-5400000"/>
                  <a:lnTo>
                    <a:pt x="18000" y="317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" name="TextBox 9"/>
            <p:cNvSpPr/>
            <p:nvPr/>
          </p:nvSpPr>
          <p:spPr>
            <a:xfrm>
              <a:off x="4408560" y="260280"/>
              <a:ext cx="168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ab7e"/>
                  </a:solidFill>
                  <a:latin typeface="Lucida Sans"/>
                </a:rPr>
                <a:t>III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7164360" y="476280"/>
            <a:ext cx="1800360" cy="4824360"/>
            <a:chOff x="7164360" y="476280"/>
            <a:chExt cx="1800360" cy="4824360"/>
          </a:xfrm>
        </p:grpSpPr>
        <p:sp>
          <p:nvSpPr>
            <p:cNvPr id="113" name="Rounded Rectangle 4"/>
            <p:cNvSpPr/>
            <p:nvPr/>
          </p:nvSpPr>
          <p:spPr>
            <a:xfrm>
              <a:off x="7164360" y="836280"/>
              <a:ext cx="1800360" cy="4464360"/>
            </a:xfrm>
            <a:custGeom>
              <a:avLst/>
              <a:gdLst>
                <a:gd name="textAreaLeft" fmla="*/ 87840 w 1800360"/>
                <a:gd name="textAreaRight" fmla="*/ 1712520 w 1800360"/>
                <a:gd name="textAreaTop" fmla="*/ 87840 h 4464360"/>
                <a:gd name="textAreaBottom" fmla="*/ 4376520 h 4464360"/>
              </a:gdLst>
              <a:ahLst/>
              <a:rect l="textAreaLeft" t="textAreaTop" r="textAreaRight" b="textAreaBottom"/>
              <a:pathLst>
                <a:path w="21600" h="53555">
                  <a:moveTo>
                    <a:pt x="3600" y="0"/>
                  </a:moveTo>
                  <a:arcTo wR="3600" hR="3600" stAng="16200000" swAng="-5400000"/>
                  <a:lnTo>
                    <a:pt x="0" y="49955"/>
                  </a:lnTo>
                  <a:arcTo wR="3600" hR="3600" stAng="10800000" swAng="-5400000"/>
                  <a:lnTo>
                    <a:pt x="18000" y="535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a40508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4" name="TextBox 11"/>
            <p:cNvSpPr/>
            <p:nvPr/>
          </p:nvSpPr>
          <p:spPr>
            <a:xfrm>
              <a:off x="7230960" y="476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cc3300"/>
                  </a:solidFill>
                  <a:latin typeface="Lucida Sans"/>
                </a:rPr>
                <a:t>IV° generation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The structure of a search Engine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6" name="Picture 3" descr="j0195384"/>
          <p:cNvPicPr/>
          <p:nvPr/>
        </p:nvPicPr>
        <p:blipFill>
          <a:blip r:embed="rId1"/>
          <a:stretch/>
        </p:blipFill>
        <p:spPr>
          <a:xfrm>
            <a:off x="6588000" y="1484280"/>
            <a:ext cx="10670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4"/>
          <p:cNvGrpSpPr/>
          <p:nvPr/>
        </p:nvGrpSpPr>
        <p:grpSpPr>
          <a:xfrm>
            <a:off x="612720" y="2565360"/>
            <a:ext cx="720720" cy="936720"/>
            <a:chOff x="612720" y="2565360"/>
            <a:chExt cx="720720" cy="936720"/>
          </a:xfrm>
        </p:grpSpPr>
        <p:sp>
          <p:nvSpPr>
            <p:cNvPr id="118" name="AutoShape 5"/>
            <p:cNvSpPr/>
            <p:nvPr/>
          </p:nvSpPr>
          <p:spPr>
            <a:xfrm>
              <a:off x="612720" y="2565360"/>
              <a:ext cx="720720" cy="9367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 rot="18163800">
              <a:off x="630720" y="2908440"/>
              <a:ext cx="56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20" name="Group 7"/>
          <p:cNvGrpSpPr/>
          <p:nvPr/>
        </p:nvGrpSpPr>
        <p:grpSpPr>
          <a:xfrm>
            <a:off x="1044360" y="2054160"/>
            <a:ext cx="1292040" cy="1806480"/>
            <a:chOff x="1044360" y="2054160"/>
            <a:chExt cx="1292040" cy="1806480"/>
          </a:xfrm>
        </p:grpSpPr>
        <p:grpSp>
          <p:nvGrpSpPr>
            <p:cNvPr id="121" name="Group 8"/>
            <p:cNvGrpSpPr/>
            <p:nvPr/>
          </p:nvGrpSpPr>
          <p:grpSpPr>
            <a:xfrm>
              <a:off x="1459080" y="2054160"/>
              <a:ext cx="877320" cy="1806480"/>
              <a:chOff x="1459080" y="2054160"/>
              <a:chExt cx="877320" cy="1806480"/>
            </a:xfrm>
          </p:grpSpPr>
          <p:sp>
            <p:nvSpPr>
              <p:cNvPr id="122" name="AutoShape 9"/>
              <p:cNvSpPr/>
              <p:nvPr/>
            </p:nvSpPr>
            <p:spPr>
              <a:xfrm>
                <a:off x="1621080" y="2494080"/>
                <a:ext cx="431640" cy="21564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3" name="AutoShape 10"/>
              <p:cNvSpPr/>
              <p:nvPr/>
            </p:nvSpPr>
            <p:spPr>
              <a:xfrm>
                <a:off x="1621080" y="2781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4" name="Line 11"/>
              <p:cNvSpPr/>
              <p:nvPr/>
            </p:nvSpPr>
            <p:spPr>
              <a:xfrm>
                <a:off x="1836720" y="3068640"/>
                <a:ext cx="0" cy="431640"/>
              </a:xfrm>
              <a:prstGeom prst="line">
                <a:avLst/>
              </a:prstGeom>
              <a:ln cap="rnd" w="507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5" name="AutoShape 12"/>
              <p:cNvSpPr/>
              <p:nvPr/>
            </p:nvSpPr>
            <p:spPr>
              <a:xfrm>
                <a:off x="1621080" y="3573360"/>
                <a:ext cx="431640" cy="216000"/>
              </a:xfrm>
              <a:prstGeom prst="cube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548000" y="2349360"/>
                <a:ext cx="576360" cy="1511280"/>
              </a:xfrm>
              <a:prstGeom prst="rect">
                <a:avLst/>
              </a:prstGeom>
              <a:noFill/>
              <a:ln w="158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27" name="Text Box 14"/>
              <p:cNvSpPr/>
              <p:nvPr/>
            </p:nvSpPr>
            <p:spPr>
              <a:xfrm>
                <a:off x="1459080" y="2054160"/>
                <a:ext cx="87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ahoma"/>
                  </a:rPr>
                  <a:t>Crawl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cxnSp>
          <p:nvCxnSpPr>
            <p:cNvPr id="128" name="AutoShape 15"/>
            <p:cNvCxnSpPr/>
            <p:nvPr/>
          </p:nvCxnSpPr>
          <p:spPr>
            <a:xfrm flipV="1">
              <a:off x="1187280" y="2636640"/>
              <a:ext cx="36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9" name="AutoShape 16"/>
            <p:cNvCxnSpPr>
              <a:endCxn id="126" idx="1"/>
            </p:cNvCxnSpPr>
            <p:nvPr/>
          </p:nvCxnSpPr>
          <p:spPr>
            <a:xfrm>
              <a:off x="1187280" y="2997000"/>
              <a:ext cx="353160" cy="1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0" name="AutoShape 17"/>
            <p:cNvCxnSpPr/>
            <p:nvPr/>
          </p:nvCxnSpPr>
          <p:spPr>
            <a:xfrm>
              <a:off x="1044360" y="32842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31" name="AutoShape 19"/>
          <p:cNvSpPr/>
          <p:nvPr/>
        </p:nvSpPr>
        <p:spPr>
          <a:xfrm>
            <a:off x="3222720" y="177804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3405240" y="191772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3586320" y="2055960"/>
            <a:ext cx="272880" cy="3492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136680" y="1519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age archiv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35" name="AutoShape 23"/>
          <p:cNvCxnSpPr>
            <a:stCxn id="126" idx="3"/>
            <a:endCxn id="131" idx="2"/>
          </p:cNvCxnSpPr>
          <p:nvPr/>
        </p:nvCxnSpPr>
        <p:spPr>
          <a:xfrm flipV="1">
            <a:off x="2131920" y="1952280"/>
            <a:ext cx="1091520" cy="1152720"/>
          </a:xfrm>
          <a:prstGeom prst="bentConnector3">
            <a:avLst>
              <a:gd name="adj1" fmla="val 4962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AutoShape 26"/>
          <p:cNvSpPr/>
          <p:nvPr/>
        </p:nvSpPr>
        <p:spPr>
          <a:xfrm>
            <a:off x="714240" y="4797360"/>
            <a:ext cx="1711440" cy="846360"/>
          </a:xfrm>
          <a:prstGeom prst="cube">
            <a:avLst>
              <a:gd name="adj" fmla="val 25000"/>
            </a:avLst>
          </a:prstGeom>
          <a:solidFill>
            <a:srgbClr val="3333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ch page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o visit next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Line 27"/>
          <p:cNvSpPr/>
          <p:nvPr/>
        </p:nvSpPr>
        <p:spPr>
          <a:xfrm flipV="1">
            <a:off x="1662120" y="3933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38" name="AutoShape 28"/>
          <p:cNvCxnSpPr>
            <a:endCxn id="136" idx="3"/>
          </p:cNvCxnSpPr>
          <p:nvPr/>
        </p:nvCxnSpPr>
        <p:spPr>
          <a:xfrm rot="5400000">
            <a:off x="1267200" y="4053600"/>
            <a:ext cx="1786680" cy="1394640"/>
          </a:xfrm>
          <a:prstGeom prst="bentConnector3">
            <a:avLst>
              <a:gd name="adj1" fmla="val 112797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9" name="Line 29"/>
          <p:cNvSpPr/>
          <p:nvPr/>
        </p:nvSpPr>
        <p:spPr>
          <a:xfrm>
            <a:off x="5508720" y="1773360"/>
            <a:ext cx="0" cy="4824360"/>
          </a:xfrm>
          <a:prstGeom prst="line">
            <a:avLst/>
          </a:prstGeom>
          <a:ln w="414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AutoShape 30"/>
          <p:cNvSpPr/>
          <p:nvPr/>
        </p:nvSpPr>
        <p:spPr>
          <a:xfrm>
            <a:off x="6588000" y="2565360"/>
            <a:ext cx="108108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1" name="Group 31"/>
          <p:cNvGrpSpPr/>
          <p:nvPr/>
        </p:nvGrpSpPr>
        <p:grpSpPr>
          <a:xfrm>
            <a:off x="5724360" y="2852640"/>
            <a:ext cx="1296720" cy="1441440"/>
            <a:chOff x="5724360" y="2852640"/>
            <a:chExt cx="1296720" cy="1441440"/>
          </a:xfrm>
        </p:grpSpPr>
        <p:sp>
          <p:nvSpPr>
            <p:cNvPr id="142" name="AutoShape 32"/>
            <p:cNvSpPr/>
            <p:nvPr/>
          </p:nvSpPr>
          <p:spPr>
            <a:xfrm>
              <a:off x="5724360" y="3644640"/>
              <a:ext cx="1134000" cy="649440"/>
            </a:xfrm>
            <a:prstGeom prst="cube">
              <a:avLst>
                <a:gd name="adj" fmla="val 25000"/>
              </a:avLst>
            </a:prstGeom>
            <a:solidFill>
              <a:srgbClr val="56ff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6533640" y="2852640"/>
              <a:ext cx="487440" cy="79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cxnSp>
        <p:nvCxnSpPr>
          <p:cNvPr id="144" name="AutoShape 34"/>
          <p:cNvCxnSpPr>
            <a:endCxn id="145" idx="3"/>
          </p:cNvCxnSpPr>
          <p:nvPr/>
        </p:nvCxnSpPr>
        <p:spPr>
          <a:xfrm flipV="1">
            <a:off x="4500720" y="4293720"/>
            <a:ext cx="357408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lg" type="stealth" w="lg"/>
          </a:ln>
        </p:spPr>
      </p:cxnSp>
      <p:cxnSp>
        <p:nvCxnSpPr>
          <p:cNvPr id="146" name="AutoShape 38"/>
          <p:cNvCxnSpPr>
            <a:endCxn id="142" idx="3"/>
          </p:cNvCxnSpPr>
          <p:nvPr/>
        </p:nvCxnSpPr>
        <p:spPr>
          <a:xfrm flipV="1">
            <a:off x="4642920" y="4293720"/>
            <a:ext cx="1567800" cy="992880"/>
          </a:xfrm>
          <a:prstGeom prst="bentConnector2">
            <a:avLst/>
          </a:prstGeom>
          <a:ln w="38160">
            <a:solidFill>
              <a:srgbClr val="00ab7e"/>
            </a:solidFill>
            <a:miter/>
            <a:tailEnd len="lg" type="stealth" w="lg"/>
          </a:ln>
        </p:spPr>
      </p:cxnSp>
      <p:grpSp>
        <p:nvGrpSpPr>
          <p:cNvPr id="147" name="Group 42"/>
          <p:cNvGrpSpPr/>
          <p:nvPr/>
        </p:nvGrpSpPr>
        <p:grpSpPr>
          <a:xfrm>
            <a:off x="6877080" y="3429000"/>
            <a:ext cx="1944720" cy="865080"/>
            <a:chOff x="6877080" y="3429000"/>
            <a:chExt cx="1944720" cy="865080"/>
          </a:xfrm>
        </p:grpSpPr>
        <p:sp>
          <p:nvSpPr>
            <p:cNvPr id="148" name="AutoShape 43"/>
            <p:cNvSpPr/>
            <p:nvPr/>
          </p:nvSpPr>
          <p:spPr>
            <a:xfrm>
              <a:off x="6948720" y="3429000"/>
              <a:ext cx="431640" cy="503280"/>
            </a:xfrm>
            <a:prstGeom prst="verticalScroll">
              <a:avLst>
                <a:gd name="adj" fmla="val 12500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149" name="Group 44"/>
            <p:cNvGrpSpPr/>
            <p:nvPr/>
          </p:nvGrpSpPr>
          <p:grpSpPr>
            <a:xfrm>
              <a:off x="6877080" y="3573360"/>
              <a:ext cx="1944720" cy="720720"/>
              <a:chOff x="6877080" y="3573360"/>
              <a:chExt cx="1944720" cy="720720"/>
            </a:xfrm>
          </p:grpSpPr>
          <p:sp>
            <p:nvSpPr>
              <p:cNvPr id="145" name="AutoShape 45"/>
              <p:cNvSpPr/>
              <p:nvPr/>
            </p:nvSpPr>
            <p:spPr>
              <a:xfrm>
                <a:off x="7506000" y="3573360"/>
                <a:ext cx="1315800" cy="720720"/>
              </a:xfrm>
              <a:prstGeom prst="cube">
                <a:avLst>
                  <a:gd name="adj" fmla="val 25000"/>
                </a:avLst>
              </a:prstGeom>
              <a:solidFill>
                <a:srgbClr val="56ff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anker</a:t>
                </a:r>
                <a:endParaRPr b="0" lang="en-US" sz="1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>
                <a:off x="6877080" y="4005360"/>
                <a:ext cx="62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51" name="Line 47"/>
            <p:cNvSpPr/>
            <p:nvPr/>
          </p:nvSpPr>
          <p:spPr>
            <a:xfrm>
              <a:off x="7021800" y="35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2" name="Line 48"/>
            <p:cNvSpPr/>
            <p:nvPr/>
          </p:nvSpPr>
          <p:spPr>
            <a:xfrm>
              <a:off x="7021800" y="3718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Line 49"/>
            <p:cNvSpPr/>
            <p:nvPr/>
          </p:nvSpPr>
          <p:spPr>
            <a:xfrm>
              <a:off x="7021800" y="3860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2413080" y="2494080"/>
            <a:ext cx="1366560" cy="1366560"/>
            <a:chOff x="2413080" y="2494080"/>
            <a:chExt cx="1366560" cy="1366560"/>
          </a:xfrm>
        </p:grpSpPr>
        <p:sp>
          <p:nvSpPr>
            <p:cNvPr id="155" name="AutoShape 52"/>
            <p:cNvSpPr/>
            <p:nvPr/>
          </p:nvSpPr>
          <p:spPr>
            <a:xfrm>
              <a:off x="2413080" y="3284640"/>
              <a:ext cx="1366560" cy="576000"/>
            </a:xfrm>
            <a:prstGeom prst="cube">
              <a:avLst>
                <a:gd name="adj" fmla="val 250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Analizer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 flipH="1">
              <a:off x="3193920" y="2494080"/>
              <a:ext cx="39132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7" name="Group 54"/>
          <p:cNvGrpSpPr/>
          <p:nvPr/>
        </p:nvGrpSpPr>
        <p:grpSpPr>
          <a:xfrm>
            <a:off x="3276720" y="4869000"/>
            <a:ext cx="1224000" cy="722160"/>
            <a:chOff x="3276720" y="4869000"/>
            <a:chExt cx="1224000" cy="722160"/>
          </a:xfrm>
        </p:grpSpPr>
        <p:sp>
          <p:nvSpPr>
            <p:cNvPr id="158" name="AutoShape 55"/>
            <p:cNvSpPr/>
            <p:nvPr/>
          </p:nvSpPr>
          <p:spPr>
            <a:xfrm>
              <a:off x="327672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AutoShape 56"/>
            <p:cNvSpPr/>
            <p:nvPr/>
          </p:nvSpPr>
          <p:spPr>
            <a:xfrm>
              <a:off x="334836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AutoShape 57"/>
            <p:cNvSpPr/>
            <p:nvPr/>
          </p:nvSpPr>
          <p:spPr>
            <a:xfrm>
              <a:off x="3421080" y="5157720"/>
              <a:ext cx="28764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AutoShape 58"/>
            <p:cNvSpPr/>
            <p:nvPr/>
          </p:nvSpPr>
          <p:spPr>
            <a:xfrm>
              <a:off x="349272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AutoShape 59"/>
            <p:cNvSpPr/>
            <p:nvPr/>
          </p:nvSpPr>
          <p:spPr>
            <a:xfrm>
              <a:off x="363708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AutoShape 60"/>
            <p:cNvSpPr/>
            <p:nvPr/>
          </p:nvSpPr>
          <p:spPr>
            <a:xfrm>
              <a:off x="370872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AutoShape 61"/>
            <p:cNvSpPr/>
            <p:nvPr/>
          </p:nvSpPr>
          <p:spPr>
            <a:xfrm>
              <a:off x="378000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5" name="AutoShape 62"/>
            <p:cNvSpPr/>
            <p:nvPr/>
          </p:nvSpPr>
          <p:spPr>
            <a:xfrm>
              <a:off x="385308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AutoShape 63"/>
            <p:cNvSpPr/>
            <p:nvPr/>
          </p:nvSpPr>
          <p:spPr>
            <a:xfrm>
              <a:off x="3996000" y="486900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7" name="AutoShape 64"/>
            <p:cNvSpPr/>
            <p:nvPr/>
          </p:nvSpPr>
          <p:spPr>
            <a:xfrm>
              <a:off x="4069080" y="5013360"/>
              <a:ext cx="287280" cy="288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8" name="AutoShape 65"/>
            <p:cNvSpPr/>
            <p:nvPr/>
          </p:nvSpPr>
          <p:spPr>
            <a:xfrm>
              <a:off x="4140360" y="515772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9" name="AutoShape 66"/>
            <p:cNvSpPr/>
            <p:nvPr/>
          </p:nvSpPr>
          <p:spPr>
            <a:xfrm>
              <a:off x="4213440" y="5302080"/>
              <a:ext cx="287280" cy="289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70" name="Text Box 67"/>
          <p:cNvSpPr/>
          <p:nvPr/>
        </p:nvSpPr>
        <p:spPr>
          <a:xfrm>
            <a:off x="3318480" y="5583240"/>
            <a:ext cx="5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68"/>
          <p:cNvSpPr/>
          <p:nvPr/>
        </p:nvSpPr>
        <p:spPr>
          <a:xfrm>
            <a:off x="3615480" y="58309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69"/>
          <p:cNvSpPr/>
          <p:nvPr/>
        </p:nvSpPr>
        <p:spPr>
          <a:xfrm>
            <a:off x="4068360" y="5589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AutoShape 72"/>
          <p:cNvSpPr/>
          <p:nvPr/>
        </p:nvSpPr>
        <p:spPr>
          <a:xfrm>
            <a:off x="4030560" y="3195720"/>
            <a:ext cx="1262160" cy="664920"/>
          </a:xfrm>
          <a:prstGeom prst="cube">
            <a:avLst>
              <a:gd name="adj" fmla="val 25000"/>
            </a:avLst>
          </a:prstGeom>
          <a:solidFill>
            <a:srgbClr val="ffc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Indexer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174" name="AutoShape 28"/>
          <p:cNvCxnSpPr>
            <a:stCxn id="155" idx="5"/>
            <a:endCxn id="173" idx="0"/>
          </p:cNvCxnSpPr>
          <p:nvPr/>
        </p:nvCxnSpPr>
        <p:spPr>
          <a:xfrm flipV="1">
            <a:off x="3779640" y="3195360"/>
            <a:ext cx="965880" cy="305280"/>
          </a:xfrm>
          <a:prstGeom prst="bentConnector4">
            <a:avLst>
              <a:gd name="adj1" fmla="val 12975"/>
              <a:gd name="adj2" fmla="val 174852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75" name="AutoShape 28"/>
          <p:cNvCxnSpPr>
            <a:stCxn id="173" idx="3"/>
          </p:cNvCxnSpPr>
          <p:nvPr/>
        </p:nvCxnSpPr>
        <p:spPr>
          <a:xfrm rot="5400000">
            <a:off x="3776760" y="3851640"/>
            <a:ext cx="793080" cy="810360"/>
          </a:xfrm>
          <a:prstGeom prst="bentConnector3">
            <a:avLst>
              <a:gd name="adj1" fmla="val 50499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web graph: propertie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Web’s Characteristic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7521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’s a graph whose size i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trillion of pages is availab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50 billion pages crawled (09/15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-40K per page =&gt; terabytes &amp; teraby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ze grows every day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ctually the web is infinite… Calendars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It’s a dynamic graph with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% new pages, 25% new links change weekl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fe time of about 10 day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Bow Ti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81" name="Picture 3" descr="bowtie"/>
          <p:cNvPicPr/>
          <p:nvPr/>
        </p:nvPicPr>
        <p:blipFill>
          <a:blip r:embed="rId1"/>
          <a:stretch/>
        </p:blipFill>
        <p:spPr>
          <a:xfrm>
            <a:off x="1260360" y="1700280"/>
            <a:ext cx="662472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Crawling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6-09-20T07:03:15Z</dcterms:modified>
  <cp:revision>1239</cp:revision>
  <dc:subject/>
  <dc:title>Web Algorithmics</dc:title>
</cp:coreProperties>
</file>